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995A-07D9-4609-B6E6-F6D69A8EA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A204-66C2-4883-94E4-EDD1F3E776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9677-135E-4B13-9F92-67D1DEFED1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3863-CB17-45E1-BF49-CCCA5D1A49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5271-C0E4-4635-8999-169FE83DDB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27C7-9822-4AFB-8412-C5D059482C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5AFD-84C0-4EC1-8C85-C26B2363D0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CDE9-7A9C-4A98-8241-DCC10815A1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0278-2D21-4DCB-A3C6-62A00679D0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B101-1851-46F9-95E9-DF7D8906C0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BFE2-AF73-4AC6-897C-844151B4E0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9C82-7FEF-47B6-BD51-9369E23165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73E1-BB58-47E7-AB10-1362F45959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2ED5-F5F6-4FE3-BE57-141CEFFDC5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377F-6A6D-40B6-AE64-F4C0866E88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74C1-1666-4C55-8241-73E130EC2E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7CD5-7460-4235-BDA2-F6CD348C6B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43F0-0150-4F75-AA2F-5B8F5C5D0D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5852-4B3B-4540-9151-C471C923E2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2A1C-C71A-4FD0-9FA6-2D28B1586F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52AC-54EA-47DE-9D99-B566EC1DD0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B016-86D0-47CA-B74B-1349DDE287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CEBC-C454-4A9D-9045-F0309DE23E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B2E7-2B00-4F58-A375-5E98A2ACBE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8CAE-66BF-4BDD-B800-988C1FB9B6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B7B0-01AB-4ADA-A6C6-5F909F1617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1DD5-39E0-4213-B2BD-5B2F924FEB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DF07-DC68-45C4-944A-CABFBE1923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21F0-98DD-46DA-8E53-E243A3FC9D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 exchanges in Africa and within SADC have made some important strides in recent years, but have still not yet reached the real take-off stage.  The future of these exchanges, in an environment characterised by intense competition from well-established financial centres, will depend upon their ability to overcome some of the above-mentioned constraints through the implementation of appropriate market-specific measures and the setting up of an a stock exchange infrastructure conducive to cross-linking of stock mark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0E63-FDDE-4B29-853F-C741CAC3EB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E630-4DFB-4634-8F19-8E0CFB0378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EB79-9C56-480A-A399-6648704BBA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7BC7-BABF-447D-84DA-9D7533BD7B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ADA0-EDBC-4CD0-859A-8823C92BC1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9BF9-7CBB-4ED3-97C7-5F0335FF25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98582-C285-46E1-982E-6B537DFCC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BA98-F437-4D2D-8559-3014120CC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F13E-583A-4302-8EE3-B272135B5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AE3DD-82C6-45B3-A61C-CAE61623B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2D5AB-1C6A-454D-8115-0DA666463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44DA6-177F-45F1-AC2A-9E500201E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891AB-D1B9-4A93-A7B3-CD618B432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964B6-DDF6-47B6-A75D-B24C68C30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6FDDB-5137-4A6F-A8D5-E3B8B1234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AC003-037F-49F4-9600-04282329A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F8C82-E354-4A94-BCEA-97A9A8739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F85A8-C3EF-4FB4-BF77-F44AB5DE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0A4A0-3510-4027-827E-FB6F7D102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B2256-6768-4845-9F93-AD106B7F7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925EE-D6DA-4AD1-832C-06ED69A49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B36F6-7BBD-4608-8E48-1B8A386A7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978CE-9844-4941-B83C-8F180E17A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33100-8DB6-4278-B91F-9E173EE4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C9CF2-BD43-461E-94C7-4E0C3D69B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0E42-8FFE-4C9E-A226-90D1D01F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94790-0833-4D57-BD16-2A68313CD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F2D2-6CBB-4A20-A49D-4CB8B189D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4177-739A-4BEE-B8D1-D18A38D70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54E0-4BAD-422A-A862-091245D5D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ck Exchange of Mauritius</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80D6-E8CF-43AF-877A-275CB0D9F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Stock Exchange of Mauritiu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51BE-33E1-4DB2-8C5F-D034D386BA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8D4C-9CC9-4F7B-AB85-7A3C237E44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6"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14B9-5156-4D07-9033-5848571209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hân loại</a:t>
            </a:r>
            <a:endParaRPr b="0" lang="en-US" sz="4000" spc="-1" strike="noStrike">
              <a:solidFill>
                <a:srgbClr val="ffcc66"/>
              </a:solidFill>
              <a:latin typeface="Arial"/>
            </a:endParaRPr>
          </a:p>
        </p:txBody>
      </p:sp>
      <p:sp>
        <p:nvSpPr>
          <p:cNvPr id="119"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dài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trung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ngắn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8F42-248D-424E-8514-8EE90F50AA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2"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9DDF-7AEF-4786-9E46-E50E4E2E33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hân tố ảnh hưởng</a:t>
            </a:r>
            <a:endParaRPr b="0" lang="en-US" sz="4000" spc="-1" strike="noStrike">
              <a:solidFill>
                <a:srgbClr val="ffcc66"/>
              </a:solidFill>
              <a:latin typeface="Arial"/>
            </a:endParaRPr>
          </a:p>
        </p:txBody>
      </p:sp>
      <p:sp>
        <p:nvSpPr>
          <p:cNvPr id="125"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sản phẩm, dich vụ và chiến lược của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ính không ổn định của môi trườ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ộ dài thời gian của KHH N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và chất lượng của thông tin dự báo về NN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1D24-81EE-4978-B5AC-95AA2F24DE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87D9-FF54-4D69-99D5-1207CE5428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y trình</a:t>
            </a:r>
            <a:endParaRPr b="0" lang="en-US" sz="4400" spc="-1" strike="noStrike">
              <a:solidFill>
                <a:srgbClr val="ffcc66"/>
              </a:solidFill>
              <a:latin typeface="Arial"/>
            </a:endParaRPr>
          </a:p>
        </p:txBody>
      </p:sp>
      <p:sp>
        <p:nvSpPr>
          <p:cNvPr id="131"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em Hình IV-1, trang 6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0EB2-E8CB-4AA5-A8A0-A666483BE6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3"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A581-9AF6-41FE-9F84-60A8D93EEA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3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6A8F-8DB6-4D89-BC98-F10AF8DCC6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a:t>
            </a:r>
            <a:endParaRPr b="0" lang="en-US" sz="3600" spc="-1" strike="noStrike">
              <a:solidFill>
                <a:srgbClr val="ffcc66"/>
              </a:solidFill>
              <a:latin typeface="Arial"/>
            </a:endParaRPr>
          </a:p>
        </p:txBody>
      </p:sp>
      <p:sp>
        <p:nvSpPr>
          <p:cNvPr id="13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FCB8-C04A-4D8C-9BBC-3D24C3F88A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Khái niệm cầu nhân lực</a:t>
            </a:r>
            <a:endParaRPr b="0" lang="en-US" sz="3600" spc="-1" strike="noStrike">
              <a:solidFill>
                <a:srgbClr val="ffcc66"/>
              </a:solidFill>
              <a:latin typeface="Arial"/>
            </a:endParaRPr>
          </a:p>
        </p:txBody>
      </p:sp>
      <p:sp>
        <p:nvSpPr>
          <p:cNvPr id="14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 số lượng và cơ cấu nhân lực cần thiết để hoàn thành số lượng sản phẩm, dịch vụ hoặc khối lượng công việc của tổ chức trong một thời kỳ nhất đị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7A06-8B45-46D6-9BCF-313FCE667A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hân tố ảnh hưởng</a:t>
            </a:r>
            <a:endParaRPr b="0" lang="en-US" sz="3600" spc="-1" strike="noStrike">
              <a:solidFill>
                <a:srgbClr val="ffcc66"/>
              </a:solidFill>
              <a:latin typeface="Arial"/>
            </a:endParaRPr>
          </a:p>
        </p:txBody>
      </p:sp>
      <p:sp>
        <p:nvSpPr>
          <p:cNvPr id="14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ngoài</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ạnh tra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ình hình kinh tế</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nghệ</a:t>
            </a:r>
            <a:endParaRPr b="0" lang="en-US" sz="2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trong</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sác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ức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 loại sản phẩm và dịch vụ mới</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ấu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7720"/>
            <a:ext cx="9144000" cy="1752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ương 3</a:t>
            </a:r>
            <a:br>
              <a:rPr sz="3200"/>
            </a:br>
            <a:r>
              <a:rPr b="0" lang="en-US" sz="4000" spc="-1" strike="noStrike">
                <a:solidFill>
                  <a:srgbClr val="ffcc66"/>
                </a:solidFill>
                <a:latin typeface="Times New Roman"/>
              </a:rPr>
              <a:t>KẾ HOẠCH HÓA NGUỒN NHÂN LỰC</a:t>
            </a:r>
            <a:endParaRPr b="0" lang="en-US" sz="4000" spc="-1" strike="noStrike">
              <a:solidFill>
                <a:srgbClr val="ffcc66"/>
              </a:solidFill>
              <a:latin typeface="Arial"/>
            </a:endParaRPr>
          </a:p>
        </p:txBody>
      </p:sp>
      <p:sp>
        <p:nvSpPr>
          <p:cNvPr id="98" name="PlaceHolder 2"/>
          <p:cNvSpPr>
            <a:spLocks noGrp="1"/>
          </p:cNvSpPr>
          <p:nvPr>
            <p:ph type="subTitle"/>
          </p:nvPr>
        </p:nvSpPr>
        <p:spPr>
          <a:xfrm>
            <a:off x="1371600" y="3428640"/>
            <a:ext cx="6400800" cy="2057400"/>
          </a:xfrm>
          <a:prstGeom prst="rect">
            <a:avLst/>
          </a:prstGeom>
          <a:noFill/>
          <a:ln w="0">
            <a:noFill/>
          </a:ln>
        </p:spPr>
        <p:txBody>
          <a:bodyPr lIns="92160" rIns="92160" tIns="46080" bIns="4608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BA Nguyễn Đức Kiên</a:t>
            </a:r>
            <a:r>
              <a:rPr b="0" lang="en-US" sz="1400" spc="-1" strike="noStrike">
                <a:solidFill>
                  <a:srgbClr val="66ff33"/>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67FD-FDCF-4D7E-B9D8-FEF6CE1E89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hân loại</a:t>
            </a:r>
            <a:endParaRPr b="0" lang="en-US" sz="3600" spc="-1" strike="noStrike">
              <a:solidFill>
                <a:srgbClr val="ffcc66"/>
              </a:solidFill>
              <a:latin typeface="Arial"/>
            </a:endParaRPr>
          </a:p>
        </p:txBody>
      </p:sp>
      <p:sp>
        <p:nvSpPr>
          <p:cNvPr id="14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ngắn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dài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4DC3-2A7D-46C4-BF81-B463CA90D8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ngắn hạn</a:t>
            </a:r>
            <a:endParaRPr b="0" lang="en-US" sz="3600" spc="-1" strike="noStrike">
              <a:solidFill>
                <a:srgbClr val="ffcc66"/>
              </a:solidFill>
              <a:latin typeface="Arial"/>
            </a:endParaRPr>
          </a:p>
        </p:txBody>
      </p:sp>
      <p:sp>
        <p:nvSpPr>
          <p:cNvPr id="15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ngắn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1 năm</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lượng lao động hao phí</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NSLĐ</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định biê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D508-0FA1-4BD8-A6D4-89297B9FB5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dài hạn</a:t>
            </a:r>
            <a:endParaRPr b="0" lang="en-US" sz="3600" spc="-1" strike="noStrike">
              <a:solidFill>
                <a:srgbClr val="ffcc66"/>
              </a:solidFill>
              <a:latin typeface="Arial"/>
            </a:endParaRPr>
          </a:p>
        </p:txBody>
      </p:sp>
      <p:sp>
        <p:nvSpPr>
          <p:cNvPr id="154"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dài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trên 1 năm, có thể từ 3 đến 5 năm</a:t>
            </a:r>
            <a:endParaRPr b="0" lang="en-US" sz="2400" spc="-1" strike="noStrike">
              <a:solidFill>
                <a:srgbClr val="ffffff"/>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a vào cầu nhân lực của từng đơn vị</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Ước lượng trung bì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hao phí lao động của một đơn vị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xu hướ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tích hồi quy tuyến tí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ên 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FA58-4AF7-4525-B91F-03105DFF04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56" name="Picture 6" descr=""/>
          <p:cNvPicPr/>
          <p:nvPr/>
        </p:nvPicPr>
        <p:blipFill>
          <a:blip r:embed="rId1"/>
          <a:stretch/>
        </p:blipFill>
        <p:spPr>
          <a:xfrm>
            <a:off x="0" y="-2052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764C-53C7-406E-BF20-4B15FF9C78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5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ung nhân lực</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E1BD-AB59-4308-BBEC-1BB6C29785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a:t>
            </a:r>
            <a:endParaRPr b="0" lang="en-US" sz="3600" spc="-1" strike="noStrike">
              <a:solidFill>
                <a:srgbClr val="ffcc66"/>
              </a:solidFill>
              <a:latin typeface="Arial"/>
            </a:endParaRPr>
          </a:p>
        </p:txBody>
      </p:sp>
      <p:sp>
        <p:nvSpPr>
          <p:cNvPr id="16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nội bộ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bên ngoà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24F8-D9C7-4217-B66F-1471D845A5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rong nội bộ tổ chức </a:t>
            </a:r>
            <a:endParaRPr b="0" lang="en-US" sz="3600" spc="-1" strike="noStrike">
              <a:solidFill>
                <a:srgbClr val="ffcc66"/>
              </a:solidFill>
              <a:latin typeface="Arial"/>
            </a:endParaRPr>
          </a:p>
        </p:txBody>
      </p:sp>
      <p:sp>
        <p:nvSpPr>
          <p:cNvPr id="16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 lực lượng lao động hiện có trong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nhân lực hiện có trong tổ chức</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phân tích</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ương pháp phân tí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E5BB-D364-4AD0-8E54-2557EC58CF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ừ bên ngoài </a:t>
            </a:r>
            <a:endParaRPr b="0" lang="en-US" sz="3600" spc="-1" strike="noStrike">
              <a:solidFill>
                <a:srgbClr val="ffcc66"/>
              </a:solidFill>
              <a:latin typeface="Arial"/>
            </a:endParaRPr>
          </a:p>
        </p:txBody>
      </p:sp>
      <p:sp>
        <p:nvSpPr>
          <p:cNvPr id="16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ến động mức sinh, mức chết, quy mô và cơ cấu dân số</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quy mô và cơ cấu lực lượng lao động xã hộ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chất lượng nguồn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ình hình di dâ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nguồn lao động từ nước ngoài v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C1D3-1D42-4271-BDF8-073F2362E9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0" name="Picture 6" descr=""/>
          <p:cNvPicPr/>
          <p:nvPr/>
        </p:nvPicPr>
        <p:blipFill>
          <a:blip r:embed="rId1"/>
          <a:stretch/>
        </p:blipFill>
        <p:spPr>
          <a:xfrm>
            <a:off x="-1116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CDCD-6C86-447F-ABA3-C688D037B5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73"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EA46-2FA9-4597-8E35-431B6E0158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0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Vai trò của KHH NN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855B-DD06-48EC-A2E6-6CB9B45F9A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Điều hòa cung-cầu nhân lực</a:t>
            </a:r>
            <a:endParaRPr b="0" lang="en-US" sz="3600" spc="-1" strike="noStrike">
              <a:solidFill>
                <a:srgbClr val="ffcc66"/>
              </a:solidFill>
              <a:latin typeface="Arial"/>
            </a:endParaRPr>
          </a:p>
        </p:txBody>
      </p:sp>
      <p:sp>
        <p:nvSpPr>
          <p:cNvPr id="17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ầu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ung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n bằng cung-cầu lao độ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782B-1905-4F47-BE9A-D03546FFF6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8" name="Picture 6" descr=""/>
          <p:cNvPicPr/>
          <p:nvPr/>
        </p:nvPicPr>
        <p:blipFill>
          <a:blip r:embed="rId1"/>
          <a:stretch/>
        </p:blipFill>
        <p:spPr>
          <a:xfrm>
            <a:off x="233280" y="1924200"/>
            <a:ext cx="8677440" cy="300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8EBE-E43E-4A5B-A1FA-B225F24AFC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0" name="Picture 6" descr=""/>
          <p:cNvPicPr/>
          <p:nvPr/>
        </p:nvPicPr>
        <p:blipFill>
          <a:blip r:embed="rId1"/>
          <a:stretch/>
        </p:blipFill>
        <p:spPr>
          <a:xfrm>
            <a:off x="0" y="-19080"/>
            <a:ext cx="91440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FF2C-9093-4B04-906B-1E8F66782F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7F2A-3C42-4451-A0D0-8B4416F5CC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6"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5AC2-639D-49CA-8554-EB38A9FD6C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3" name="Picture 6"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7C5C-FCDC-4884-8107-21D3650419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0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EA49-22F3-43B2-9452-ECDC1C3B20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hái niệm và vai trò</a:t>
            </a:r>
            <a:endParaRPr b="0" lang="en-US" sz="4000" spc="-1" strike="noStrike">
              <a:solidFill>
                <a:srgbClr val="ffcc66"/>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quá trình đánh giá, xác định nhu cầu về NNL để đáp ứng mục tiêu công việc của tổ chức và xây dựng các kế hoạch lao động nhằm đáp ứng được các nhu cầu đó.</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ữ vao trò trung tâm trong quản lý chiến lược NNL</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ảnh hưởng lớn đến hiệu quả của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8CEF-BEA3-4405-BE09-8844D4FAF2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1"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30B0-8C3E-40CD-825D-15666A23D5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3" name="Picture 6"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B868-9082-4E83-9646-C6CDA24EE7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1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guyen Duc Kien</cp:lastModifiedBy>
  <dcterms:modified xsi:type="dcterms:W3CDTF">2008-11-01T03:06:18Z</dcterms:modified>
  <cp:revision>139</cp:revision>
  <dc:subject/>
  <dc:title>PowerPoint Presentation</dc:title>
</cp:coreProperties>
</file>