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A05D7-70D8-4875-9AD5-505665ABD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BC09-4B01-475B-BD4E-D896DA2F5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F78C2-7544-45B3-BF7A-F158C21F0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E434D-8221-42C9-AE08-A10FEE83A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944A1-47EA-430D-977E-AD176B76D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02FBE-2363-4EA6-B41D-6AB4FB542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569CA-C1A7-4892-8F9E-5B0418086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BC027-9291-476F-A3B5-510FDA9A0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AF4A1-47EE-45EC-B259-3DA2863A0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2744C-3303-4D65-8E46-E79BF5807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9EFDE-EF47-4ABF-982E-4BEABE2EB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6191-F8AC-49C2-84EA-27404102F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4CE3D-AAC4-49A1-A87F-055D80613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7C080-EFD1-4178-A02C-4D0885369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53289-FB8B-48BA-9C81-1EE607689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8CAC8-7FC4-4CD5-BB51-9760205FE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2A27C-42AD-42A9-84C1-19B166140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E703E-C20B-4451-89A6-30CF74C69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A6AD6-856A-40F0-83D7-0CA40DEBF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1A8B6-BD13-4946-B74F-4647B499A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F0F35-6F79-43D2-B754-CC448ACDF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CBE54-5E4C-4768-824C-5F7952C81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8C5D-6A38-4DA4-935D-27EE0BD4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4571D-010C-4FC3-9239-D9E9C0EB9C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C3DF3-35EC-484D-B436-9E0B74C55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42D99-BDD9-48C6-8220-B470E6E93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D66FC-2F94-4283-906F-178EC5042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7BD4D-20F0-41A0-B9F6-2A8E470EA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61100C-1CEC-45BF-844F-FE4BEB4F3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F3C29-52E9-4D4D-8A56-017D10EEE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61CB40-D761-472C-93E8-9C0DEDD8B2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F738E-9653-49FA-91E6-333135EC6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C3B11-E2A1-41AB-BA90-9A5BA9155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B4989-1A56-4CC2-9041-8C5B84246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C73F4-6261-4632-9414-B2FB125DB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B4B5D-C9EE-4600-B4DD-4BD15E17C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376AA-2CA5-464B-97FB-05513132C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CFED3-A487-4F1D-9B5D-90CA3AFE0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A4110-7E5A-4645-8FDA-AE13C54A6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B96BB-5FFE-44FA-9B36-3ACFEF4DC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F3BAC-F4BD-47A9-93DA-2335D86AF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465D8-3882-4A72-9C78-26F0138ECE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94E65C-7104-4215-B0C7-3B269486CC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00E2BD-0625-452E-90CC-02278F6A1B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27EC-68F8-4C8C-8ED0-2F4CE40AA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BD7B4-F72F-4F12-9E6E-09F646933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28332-C93E-4CC4-8442-BCEF8CA47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7FB907-3E2F-475F-AA7A-78C38AC69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3D182-C52B-44F7-AB3E-6C685E1D2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8B1B5-1D45-4D59-883F-C8710EB95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98C9D-F008-4454-AA38-2E0EAFD81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7C29A-1590-4CE4-B11B-5F13BF5D4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3A262-4995-4380-A512-B6F197BEB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BE136-13D3-4BD2-A32E-1022B6564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DACAEE-9CBD-4A0A-AA84-B95927E396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FC0C-4A4C-4E1D-9178-ECE829E1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8344F1-1C76-4EF6-8469-ECB399A3BA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F7AC48-77F3-4AF2-890B-3945842BEF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8EE85-97B2-466E-88E8-F2E0D8F40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1C2AB-F1A5-441B-B6C3-45BDE01BC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8C8FC-D788-4A64-A796-E38E9DCD2B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5EE28-A1A4-41FD-A0B2-0478005EC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EBED79-801E-4422-8805-055916791E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4FABE-4BC9-448C-9F84-B8E3A26F1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05B43-48FA-40B6-8201-9C581B43C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96723-649A-42A8-A2A5-279E243A7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E1F4-8633-4563-8A4D-8197B08E3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48ABB-FB0E-4434-8ED0-BBA878B44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2C507D-51F8-4FE3-B5A3-A441F37B3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69FE4-B2B1-4F6C-B4C7-81107ACB67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956008-4139-4480-8D88-54B255B83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CAD77-02D6-49C2-870E-DE58D48EC1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45AC4-F070-44F9-89EA-E8294EC5B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5A88B-AB52-44B4-A4AB-17EAC6138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A1D56-E2B8-476C-B5A7-A2812A8BF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411970-5634-483F-8F35-064AAAF6B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9FFA4-CC00-4AF2-9B11-F383089D6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7763-1339-4611-B744-929F0F9FC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F3144-C839-4F04-A53B-519687B7E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F43BA-B403-4EB2-865E-01EC12A85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BB0B0-68D9-4551-8B83-D4287C74F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65D29-FB4A-4F65-B058-11D228F4DA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D44D9D-B290-4C7B-912B-48662F83E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9A240-E1C3-4111-B4B5-F8DCDA656D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42BDB-FE78-4966-B4EF-6FAAECE196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0D0DB-FE80-41EB-8757-BDBEE66909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7F72C-5821-43E7-A6A2-977F912CD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2DDA98-D4AA-4A94-962E-CFB7E027E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0619-C8FA-4E2E-9108-4B9FFCEC1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79082-02B9-460F-A46D-F408987875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EA5BB-4546-431C-B1C3-AD890EC84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AD337-B850-4F59-979B-65C0CF72B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39165-B977-406B-A636-EC6BADEC9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D742D7-1C98-478A-B8E2-E833ADC7D1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71AE6A-AC7E-4430-A997-2A3FC1EBE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59CC23-83AC-420A-BF27-08B19EAC1B5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E838-1810-4D49-ACB1-EEF2A8848972}"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A892-810A-461A-99A6-4929A2342C6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D9B3-0EF8-4EAF-81E8-74E2B6EF6265}" type="datetime">
              <a:rPr b="0" lang="en-US" sz="1000" spc="-1" strike="noStrike">
                <a:solidFill>
                  <a:srgbClr val="ffffff"/>
                </a:solidFill>
                <a:latin typeface="Lucida Sans Unicode"/>
              </a:rPr>
              <a:t>07/30/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1379-5467-4006-9236-E0A031D900F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C3AC-02A5-4E73-8FB6-B2C0C409BC9F}"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C52D-B532-4731-8D2E-F01F487EE6D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1F33-A4B7-4158-B06A-E04069712A2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701A-ABBA-4815-A5C6-F2A6840F8E3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B3A9-9A59-49B4-A7D9-3A8204B9BBB4}"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4E15-3AB8-457B-AE4B-7E4391A1BFF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608A-97EF-4565-A555-53FBD76D403E}"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A225-D180-4939-A7A5-1558F4AFE65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22E1-F973-4DA8-95FF-A9C350AE18E7}"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4332-2B02-414E-8FAC-CD19A27D807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0726-AAA7-4E5E-B873-3925A473CAB2}" type="datetime">
              <a:rPr b="0" lang="en-US" sz="1000" spc="-1" strike="noStrike">
                <a:solidFill>
                  <a:srgbClr val="ffffff"/>
                </a:solidFill>
                <a:latin typeface="Lucida Sans Unicode"/>
              </a:rPr>
              <a:t>07/30/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7815-F669-47B5-8B7F-CA053BB9E9F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7581-7595-4C9A-A95A-0031E9971639}"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9C72-3815-44FC-B247-3B7143EE2BF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02F9-F7E1-4161-AD46-F379C1D4517E}"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1E12-8E7B-4A72-A2EA-B268CDDF467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1743-ABF3-46E2-98B2-3B7346D59F17}"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441F-B751-453F-9278-22A609AEBB1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CB11-8741-4A63-9403-AC0CD8A7B7C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EF37-EAA5-4DD4-A2D0-CB6170D647C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BF65-AF5E-4D3E-83B3-C76C831F68FA}"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542B-A60C-4655-B373-F289BC12008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8833-68AB-450E-9644-04D53612588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B50D-05D0-4160-9A79-203B1AFD20E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64B8-F420-4004-8EB0-87B26950CC3F}"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9B16-04D3-4AB4-8019-0AABA47961D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1111-5745-477D-8FE8-C4E8EE84CE4D}"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A447-F307-4C04-9CE0-9E6EBC8A681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8225-274E-4261-985A-73C78BBD403A}"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A7CD-501A-4389-8F2F-6E618A80F52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0F6A-2839-48D0-B1FB-09459DBD8DB2}"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9BFB-816F-4EBE-A492-F087B51042B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3F59-7032-4D84-8A34-912C07C55BC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2059-90C8-4431-A47B-49EEEEC630B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8305-A75F-443C-A9A1-05B9620CDE73}"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4BDB-8BC9-494E-AD15-AB3889BD31B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EA01-B42E-433D-AC0F-6D0A981D9566}"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EA3A-50A2-4415-9DF6-129CDDDBAF6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3EC3-B6DE-429A-A961-020840B99173}"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7988-7C06-4B85-98B9-E85246CFEE6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1043-CA2F-4018-8874-4BAA759A66A3}"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F751-24BD-4575-B905-515B99F1BEB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28A4-3C19-4AC2-AA75-00320416DF5B}"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BD9C-0BDA-4E03-BF3E-743E73CA7C8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0EC9-0589-43BB-90DF-4D78DA338A04}"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FDA1-B186-40D8-A774-AEA108F52ED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AF63-6665-4D16-86C9-36498062424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9E23-D50A-4BDD-9F02-A362BCA0BDF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B87C-01AA-448B-9DB6-CF14D5AB7392}"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7ADA-B451-45E6-ADD2-3D920229F5A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24C5-244E-4B08-A58F-19CA8CA4FF8C}" type="datetime">
              <a:rPr b="0" lang="en-US" sz="1000" spc="-1" strike="noStrike">
                <a:solidFill>
                  <a:srgbClr val="000000"/>
                </a:solidFill>
                <a:latin typeface="Lucida Sans Unicode"/>
              </a:rPr>
              <a:t>07/30/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7DB5-5F09-4D88-A251-23ABA5B8E12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