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232B-FB5E-4026-A48E-E295F7100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C945-4108-418B-AFE5-6A18774231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6EE3-F3B9-4F31-BAB2-A28D396C38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E22F-9B17-440F-BD55-146E9DB58C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461F-82B0-41DD-A986-FE303AAF70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E85D-CFAC-4D24-86D6-364EE92625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FF21-A86E-494C-AA54-46F9973050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BA92-353D-40E5-B1D6-0E1EE48374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7A42-275E-47EE-A5C2-29CD9B8EFC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26CA-76A0-4211-9D8B-F5CDD892A3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CF1A-61E1-4DB7-AE29-9DC05A58CD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BD8F-831F-4A60-A477-D9985635F0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61FE-2658-410C-B824-B202BDEB21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AA27-049D-4714-A169-0494E04F04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5E34-46F4-442E-933D-C89A104CF4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88CD-E66B-462B-898B-29B6C7658C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7431-149B-402C-85A3-2207281977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0D32-855B-4A8A-A3E4-24DFA8DFCD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703A-AEE0-4992-8603-29A6977136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C0A0-4FB1-4958-B7AE-7211A74AD5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50FF-4FFD-4AEE-953D-DD0E57CF75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AFAA-3489-4146-83CB-9647A6F3D3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9B6A-C744-4EDE-A048-907616D900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5E37-FB95-412D-B2AC-A3D7EB49D4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CAC2-DBEE-4849-ADD8-4A1D5AC4F6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6025-2834-4329-A0BE-71720395A0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CC5C-78AE-4889-91B6-A8B3379F3D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C11D-B89A-43DA-9D6A-E81684A91C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D599-A702-4F80-BF41-CE69EFB942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NCLU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 exchanges in Africa and within SADC have made some important strides in recent years, but have still not yet reached the real take-off stage.  The future of these exchanges, in an environment characterised by intense competition from well-established financial centres, will depend upon their ability to overcome some of the above-mentioned constraints through the implementation of appropriate market-specific measures and the setting up of an a stock exchange infrastructure conducive to cross-linking of stock marke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29C0-CB8B-42BF-BB7D-3FC333F1FC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F7F0-33A3-452A-B444-714DD5F997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BB19-F0CF-4752-BE5F-BA03BE1B47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A62B-D899-47DA-8C2E-6373CCEC0F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8F41-4FC7-4956-B593-878175132D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solution to the problems of small, illiquid markets, besides the implementation of the above-mentioned micro-measures, lies in the cross-linking of markets.  Cross-linking, coupled with the lifting of exchange control, can, if well marketed, become a powerful engine of market development in small markets on the African continent and in the SADC region.  Cross-linking will enable an integration of small market while preserving the national identity of each market.  It will enable investors of a particular region to have access to stocks from other markets of the same region, thereby increasing both the number of players and the number of scrips available. Both demand-side and supply-side problems can be overcome, enabling stock markets on the continent and within the SADC region to play a more meaningful role to the process of economic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CF72-ABC0-486A-912C-6AEC934AB9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98D21-3C9F-496E-9003-24B05AE40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60645-E600-4B61-BC33-921D716EC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D3185-D836-4863-8D3B-B128666D6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9C569-E0CF-4B2C-ADF0-A535FD3EF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41EA6-BB90-41BC-90B1-01A18EB4C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D25E4-9580-4CBD-8ABA-1033CAFF8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51DD7-F80E-45EA-8C87-44870B979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9B027-A2B8-459C-B583-6ACE29007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92EEE-A80A-4979-9F9F-4B1C7F344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8FBE2-CFA8-44CD-865E-AA066C139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ADC1E-E945-40FE-95B1-D83B3E88E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F1248-1777-4423-9CAA-55C045194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4F56D-03E1-4645-A379-2C7152CDA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A441A-5139-4783-BC6F-A8F81B9EA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506F9-C1E8-40EC-80DC-C6C47542A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B61DE-E4A5-4109-A66A-2A7192479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1B857-524E-4765-B011-ED3E2B82D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E72E0-746D-46DD-B65E-CB390F5C0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7B6DC-090C-46BE-BE00-95A32E7AE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EDEB4-9671-46E8-B470-4A537CA1D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12E1E-432E-4D6C-8612-74EDAC951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DD9EF-17A7-4F68-BC17-817ED4798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0E49B-2AEA-4AB8-9A6A-5D14CE5CD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784EF-EC5E-49B4-A5CE-AEF924D3E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1440"/>
            <a:ext cx="9132840" cy="6845400"/>
            <a:chOff x="0" y="1440"/>
            <a:chExt cx="9132840" cy="6845400"/>
          </a:xfrm>
        </p:grpSpPr>
        <p:sp>
          <p:nvSpPr>
            <p:cNvPr id="1" name="Freeform 1027"/>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1028"/>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ock Exchange of Mauritius</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1B4B-F622-4CFE-940A-CF413AEF3B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Stock Exchange of Mauritius</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B7E9-5A25-4B45-B4C5-D45CA595AC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6DBC-F495-4148-A8E4-6FF95AACDF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6"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93A0-5C1D-448B-8DC7-DBFF705D89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hân loại</a:t>
            </a:r>
            <a:endParaRPr b="0" lang="en-US" sz="4000" spc="-1" strike="noStrike">
              <a:solidFill>
                <a:srgbClr val="ffcc66"/>
              </a:solidFill>
              <a:latin typeface="Arial"/>
            </a:endParaRPr>
          </a:p>
        </p:txBody>
      </p:sp>
      <p:sp>
        <p:nvSpPr>
          <p:cNvPr id="119"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dài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trung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 hoạch NNL ngắn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EF84-6DB6-46EF-8AE0-FEF576358B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2"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1492-B201-4FA0-86A6-D4DB75C342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Nhân tố ảnh hưởng</a:t>
            </a:r>
            <a:endParaRPr b="0" lang="en-US" sz="4000" spc="-1" strike="noStrike">
              <a:solidFill>
                <a:srgbClr val="ffcc66"/>
              </a:solidFill>
              <a:latin typeface="Arial"/>
            </a:endParaRPr>
          </a:p>
        </p:txBody>
      </p:sp>
      <p:sp>
        <p:nvSpPr>
          <p:cNvPr id="125"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sản phẩm, dich vụ và chiến lược của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ính không ổn định của môi trườ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ộ dài thời gian của KHH NN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ại và chất lượng của thông tin dự báo về NN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5035-2B8E-4BED-A764-D9C73F7F0B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28"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8656-1C0D-459D-9FE9-27A9E20ECF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y trình</a:t>
            </a:r>
            <a:endParaRPr b="0" lang="en-US" sz="4400" spc="-1" strike="noStrike">
              <a:solidFill>
                <a:srgbClr val="ffcc66"/>
              </a:solidFill>
              <a:latin typeface="Arial"/>
            </a:endParaRPr>
          </a:p>
        </p:txBody>
      </p:sp>
      <p:sp>
        <p:nvSpPr>
          <p:cNvPr id="131"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em Hình IV-1, trang 6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8795-3940-4E39-B5D9-92F2C1786C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33"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F6B1-27D3-4520-B21B-8A1783D4F0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3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5B11-83A3-4A41-A755-E87DD986C1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a:t>
            </a:r>
            <a:endParaRPr b="0" lang="en-US" sz="3600" spc="-1" strike="noStrike">
              <a:solidFill>
                <a:srgbClr val="ffcc66"/>
              </a:solidFill>
              <a:latin typeface="Arial"/>
            </a:endParaRPr>
          </a:p>
        </p:txBody>
      </p:sp>
      <p:sp>
        <p:nvSpPr>
          <p:cNvPr id="13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EA91-4BA2-4F1D-85F8-1EA35400D5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Khái niệm cầu nhân lực</a:t>
            </a:r>
            <a:endParaRPr b="0" lang="en-US" sz="3600" spc="-1" strike="noStrike">
              <a:solidFill>
                <a:srgbClr val="ffcc66"/>
              </a:solidFill>
              <a:latin typeface="Arial"/>
            </a:endParaRPr>
          </a:p>
        </p:txBody>
      </p:sp>
      <p:sp>
        <p:nvSpPr>
          <p:cNvPr id="14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à số lượng và cơ cấu nhân lực cần thiết để hoàn thành số lượng sản phẩm, dịch vụ hoặc khối lượng công việc của tổ chức trong một thời kỳ nhất đị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3ACE-42B5-48BA-9234-52A6C2A308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hân tố ảnh hưởng</a:t>
            </a:r>
            <a:endParaRPr b="0" lang="en-US" sz="3600" spc="-1" strike="noStrike">
              <a:solidFill>
                <a:srgbClr val="ffcc66"/>
              </a:solidFill>
              <a:latin typeface="Arial"/>
            </a:endParaRPr>
          </a:p>
        </p:txBody>
      </p:sp>
      <p:sp>
        <p:nvSpPr>
          <p:cNvPr id="14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ngoài</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ạnh tra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ình hình kinh tế</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ật pháp</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ông nghệ</a:t>
            </a:r>
            <a:endParaRPr b="0" lang="en-US" sz="2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ên trong</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gân sác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ức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 loại sản phẩm và dịch vụ mới</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cấu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7720"/>
            <a:ext cx="9144000" cy="1752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ương 3</a:t>
            </a:r>
            <a:br>
              <a:rPr sz="3200"/>
            </a:br>
            <a:r>
              <a:rPr b="0" lang="en-US" sz="4000" spc="-1" strike="noStrike">
                <a:solidFill>
                  <a:srgbClr val="ffcc66"/>
                </a:solidFill>
                <a:latin typeface="Times New Roman"/>
              </a:rPr>
              <a:t>KẾ HOẠCH HÓA NGUỒN NHÂN LỰC</a:t>
            </a:r>
            <a:endParaRPr b="0" lang="en-US" sz="4000" spc="-1" strike="noStrike">
              <a:solidFill>
                <a:srgbClr val="ffcc66"/>
              </a:solidFill>
              <a:latin typeface="Arial"/>
            </a:endParaRPr>
          </a:p>
        </p:txBody>
      </p:sp>
      <p:sp>
        <p:nvSpPr>
          <p:cNvPr id="98" name="PlaceHolder 2"/>
          <p:cNvSpPr>
            <a:spLocks noGrp="1"/>
          </p:cNvSpPr>
          <p:nvPr>
            <p:ph type="subTitle"/>
          </p:nvPr>
        </p:nvSpPr>
        <p:spPr>
          <a:xfrm>
            <a:off x="1371600" y="3428640"/>
            <a:ext cx="6400800" cy="2057400"/>
          </a:xfrm>
          <a:prstGeom prst="rect">
            <a:avLst/>
          </a:prstGeom>
          <a:noFill/>
          <a:ln w="0">
            <a:noFill/>
          </a:ln>
        </p:spPr>
        <p:txBody>
          <a:bodyPr lIns="92160" rIns="92160" tIns="46080" bIns="4608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BA Nguyễn Đức Kiên</a:t>
            </a:r>
            <a:r>
              <a:rPr b="0" lang="en-US" sz="1400" spc="-1" strike="noStrike">
                <a:solidFill>
                  <a:srgbClr val="66ff33"/>
                </a:solidFill>
                <a:latin typeface="Times New Roman"/>
              </a:rPr>
              <a:t> </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5688-BD0E-4CCB-A066-20AD0C7E6D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Phân loại</a:t>
            </a:r>
            <a:endParaRPr b="0" lang="en-US" sz="3600" spc="-1" strike="noStrike">
              <a:solidFill>
                <a:srgbClr val="ffcc66"/>
              </a:solidFill>
              <a:latin typeface="Arial"/>
            </a:endParaRPr>
          </a:p>
        </p:txBody>
      </p:sp>
      <p:sp>
        <p:nvSpPr>
          <p:cNvPr id="14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ngắn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dài hạ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70C2-381C-4404-A0BA-03FFBE2153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ngắn hạn</a:t>
            </a:r>
            <a:endParaRPr b="0" lang="en-US" sz="3600" spc="-1" strike="noStrike">
              <a:solidFill>
                <a:srgbClr val="ffcc66"/>
              </a:solidFill>
              <a:latin typeface="Arial"/>
            </a:endParaRPr>
          </a:p>
        </p:txBody>
      </p:sp>
      <p:sp>
        <p:nvSpPr>
          <p:cNvPr id="15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ngắn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1 năm</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lượng lao động hao phí</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NSLĐ</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định biê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5BF8-E9EF-442F-85CB-977CBE7264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ầu nhân lực dài hạn</a:t>
            </a:r>
            <a:endParaRPr b="0" lang="en-US" sz="3600" spc="-1" strike="noStrike">
              <a:solidFill>
                <a:srgbClr val="ffcc66"/>
              </a:solidFill>
              <a:latin typeface="Arial"/>
            </a:endParaRPr>
          </a:p>
        </p:txBody>
      </p:sp>
      <p:sp>
        <p:nvSpPr>
          <p:cNvPr id="154"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cầu nhân lực dài hạn</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ầu nhân lực trong thời hạn trên 1 năm, có thể từ 3 đến 5 năm</a:t>
            </a:r>
            <a:endParaRPr b="0" lang="en-US" sz="2400" spc="-1" strike="noStrike">
              <a:solidFill>
                <a:srgbClr val="ffffff"/>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ương pháp</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a vào cầu nhân lực của từng đơn vị</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Ước lượng trung bì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ính theo tiêu chuẩn hao phí lao động của một đơn vị sản lượ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 đoán xu hướng</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ân tích hồi quy tuyến tính</a:t>
            </a: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uyên 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B627-EE7F-48F1-9FEC-C12529BDA39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56" name="Picture 6" descr=""/>
          <p:cNvPicPr/>
          <p:nvPr/>
        </p:nvPicPr>
        <p:blipFill>
          <a:blip r:embed="rId1"/>
          <a:stretch/>
        </p:blipFill>
        <p:spPr>
          <a:xfrm>
            <a:off x="0" y="-20520"/>
            <a:ext cx="9144000" cy="687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629A-413C-4788-B4B4-35CAB2CB4B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59"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Dự đoán cung nhân lực</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B43A-EE9E-4494-A4BE-FC2B7D704A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a:t>
            </a:r>
            <a:endParaRPr b="0" lang="en-US" sz="3600" spc="-1" strike="noStrike">
              <a:solidFill>
                <a:srgbClr val="ffcc66"/>
              </a:solidFill>
              <a:latin typeface="Arial"/>
            </a:endParaRPr>
          </a:p>
        </p:txBody>
      </p:sp>
      <p:sp>
        <p:nvSpPr>
          <p:cNvPr id="162"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ng nội bộ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ừ bên ngoà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AF64-15BF-46D7-97AA-B0038B4814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rong nội bộ tổ chức </a:t>
            </a:r>
            <a:endParaRPr b="0" lang="en-US" sz="3600" spc="-1" strike="noStrike">
              <a:solidFill>
                <a:srgbClr val="ffcc66"/>
              </a:solidFill>
              <a:latin typeface="Arial"/>
            </a:endParaRPr>
          </a:p>
        </p:txBody>
      </p:sp>
      <p:sp>
        <p:nvSpPr>
          <p:cNvPr id="165"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 lực lượng lao động hiện có trong tổ chứ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nhân lực hiện có trong tổ chức</a:t>
            </a:r>
            <a:endParaRPr b="0" lang="en-US" sz="28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ội dung phân tích</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ương pháp phân tí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41A3-D17D-42CE-ADE6-A3059AA795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ự đoán cung nhân lực từ bên ngoài </a:t>
            </a:r>
            <a:endParaRPr b="0" lang="en-US" sz="3600" spc="-1" strike="noStrike">
              <a:solidFill>
                <a:srgbClr val="ffcc66"/>
              </a:solidFill>
              <a:latin typeface="Arial"/>
            </a:endParaRPr>
          </a:p>
        </p:txBody>
      </p:sp>
      <p:sp>
        <p:nvSpPr>
          <p:cNvPr id="168"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ến động mức sinh, mức chết, quy mô và cơ cấu dân số</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quy mô và cơ cấu lực lượng lao động xã hộ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chất lượng nguồn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tình hình di dâ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nguồn lao động từ nước ngoài về</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D7F3-03C4-4199-8CEB-EE46AD0DBD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0" name="Picture 6" descr=""/>
          <p:cNvPicPr/>
          <p:nvPr/>
        </p:nvPicPr>
        <p:blipFill>
          <a:blip r:embed="rId1"/>
          <a:stretch/>
        </p:blipFill>
        <p:spPr>
          <a:xfrm>
            <a:off x="-1116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34CB-8BB6-4227-B1B8-ED9D026AA9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73"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KHH NNL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83A0-6506-45C3-88DF-3DBF0C96D99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ấu trúc trình bày</a:t>
            </a:r>
            <a:endParaRPr b="0" lang="en-US" sz="3600" spc="-1" strike="noStrike">
              <a:solidFill>
                <a:srgbClr val="ffcc66"/>
              </a:solidFill>
              <a:latin typeface="Arial"/>
            </a:endParaRPr>
          </a:p>
        </p:txBody>
      </p:sp>
      <p:sp>
        <p:nvSpPr>
          <p:cNvPr id="101"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Times New Roman"/>
              </a:rPr>
              <a:t>Vai trò của KHH NN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ầu nhân lực</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ự đoán cung nhân lực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hòa cung-cầu nhân lự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2A2E-12DD-4528-9498-81743D247F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380880" y="15192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Điều hòa cung-cầu nhân lực</a:t>
            </a:r>
            <a:endParaRPr b="0" lang="en-US" sz="3600" spc="-1" strike="noStrike">
              <a:solidFill>
                <a:srgbClr val="ffcc66"/>
              </a:solidFill>
              <a:latin typeface="Arial"/>
            </a:endParaRPr>
          </a:p>
        </p:txBody>
      </p:sp>
      <p:sp>
        <p:nvSpPr>
          <p:cNvPr id="176" name="PlaceHolder 2"/>
          <p:cNvSpPr>
            <a:spLocks noGrp="1"/>
          </p:cNvSpPr>
          <p:nvPr>
            <p:ph/>
          </p:nvPr>
        </p:nvSpPr>
        <p:spPr>
          <a:xfrm>
            <a:off x="228600" y="1371600"/>
            <a:ext cx="8686800" cy="5029200"/>
          </a:xfrm>
          <a:prstGeom prst="rect">
            <a:avLst/>
          </a:prstGeom>
          <a:noFill/>
          <a:ln w="0">
            <a:noFill/>
          </a:ln>
        </p:spPr>
        <p:txBody>
          <a:bodyPr anchor="t">
            <a:normAutofit/>
          </a:bodyPr>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ầu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 cung lao độ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ân bằng cung-cầu lao độ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992C-F795-4516-AAC3-0C7AB8ED4E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78" name="Picture 6" descr=""/>
          <p:cNvPicPr/>
          <p:nvPr/>
        </p:nvPicPr>
        <p:blipFill>
          <a:blip r:embed="rId1"/>
          <a:stretch/>
        </p:blipFill>
        <p:spPr>
          <a:xfrm>
            <a:off x="233280" y="1924200"/>
            <a:ext cx="8677440" cy="300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49D4-E8A9-4CF3-9506-590DD9D216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0" name="Picture 6" descr=""/>
          <p:cNvPicPr/>
          <p:nvPr/>
        </p:nvPicPr>
        <p:blipFill>
          <a:blip r:embed="rId1"/>
          <a:stretch/>
        </p:blipFill>
        <p:spPr>
          <a:xfrm>
            <a:off x="0" y="-19080"/>
            <a:ext cx="9144000" cy="689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0E27-9154-433B-9F78-2AB58CEE35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BE18-CEE7-45E9-B6DC-1C628EA135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4" name="Picture 6"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A4A4-A5CF-432B-BCB6-6B54342036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03" name="Picture 6"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58A2-385C-4AA7-A9EC-1BFBA21B00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0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13F7-A938-4452-AF6C-1630B85E16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0" y="228600"/>
            <a:ext cx="91440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Khái niệm và vai trò</a:t>
            </a:r>
            <a:endParaRPr b="0" lang="en-US" sz="4000" spc="-1" strike="noStrike">
              <a:solidFill>
                <a:srgbClr val="ffcc66"/>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quá trình đánh giá, xác định nhu cầu về NNL để đáp ứng mục tiêu công việc của tổ chức và xây dựng các kế hoạch lao động nhằm đáp ứng được các nhu cầu đó.</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ữ vao trò trung tâm trong quản lý chiến lược NNL</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ảnh hưởng lớn đến hiệu quả của tổ chứ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F77F-B327-41DC-92B6-E20F4C0D80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1"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0081-9C2E-48C8-82CD-01AD7A08E8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13" name="Picture 6" descr=""/>
          <p:cNvPicPr/>
          <p:nvPr/>
        </p:nvPicPr>
        <p:blipFill>
          <a:blip r:embed="rId1"/>
          <a:stretch/>
        </p:blipFill>
        <p:spPr>
          <a:xfrm>
            <a:off x="0" y="14400"/>
            <a:ext cx="9144000" cy="68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B511-B02C-43D4-BB83-AD2278704D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0" y="151920"/>
            <a:ext cx="9144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ai trò của KHH NNL</a:t>
            </a:r>
            <a:endParaRPr b="0" lang="en-US" sz="4000" spc="-1" strike="noStrike">
              <a:solidFill>
                <a:srgbClr val="ffcc66"/>
              </a:solidFill>
              <a:latin typeface="Arial"/>
            </a:endParaRPr>
          </a:p>
        </p:txBody>
      </p:sp>
      <p:sp>
        <p:nvSpPr>
          <p:cNvPr id="116"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vai trò</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Phân loại</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ân tố ảnh hưởng</a:t>
            </a:r>
            <a:endParaRPr b="0" lang="en-US" sz="28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y trìn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guyen Duc Kien</cp:lastModifiedBy>
  <dcterms:modified xsi:type="dcterms:W3CDTF">2008-11-01T03:06:18Z</dcterms:modified>
  <cp:revision>139</cp:revision>
  <dc:subject/>
  <dc:title>PowerPoint Presentation</dc:title>
</cp:coreProperties>
</file>