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10F-BCFE-423D-81AD-3854C445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BCC-8C3B-4CDB-A26E-9F533FD6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87F-7E87-409C-B9D5-A86B663C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069-13A0-4F8A-8489-57AF36F4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BFE-CBE4-4A9A-8C05-0D69C411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573-8D55-4930-AAA8-A91D7163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6A8-E10D-47BB-8398-0E990BEF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C00-FE3F-4180-84BE-9342ACF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9BF-414D-4EEA-ABD9-3EDC7F42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689-615B-4667-BD90-E3CF1CA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AEF-2F0D-4DD6-A10D-41DF9BB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0B5-CA28-4078-B964-A78AA09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3A72-77AC-4E6B-9F73-3B52B88C51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958480"/>
            <a:ext cx="489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4:51Z</dcterms:modified>
  <cp:revision>698</cp:revision>
  <dc:subject/>
  <dc:title>Diapositiva 1</dc:title>
</cp:coreProperties>
</file>