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284D-2AF0-47CD-906B-C2E62A171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EDF9-B2EE-4AEA-A674-7F93CAC16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6DC4-1AA7-4DEE-B696-BD1FE3D52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84EF-535F-468B-8293-DA8254CF1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1C40-96A5-406D-8775-754781B24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009E-4D19-40F3-87F7-4D4C63EEE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DFD1-58FA-4333-BD51-246945E6B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515C-78C8-48D6-AFAD-3D175146A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291D-C1BC-412D-A349-F2A638509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C0DF-95E5-41FC-A16C-D8DBA7CA5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A871-36CF-4089-8C23-FBFD26515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2D30-4338-48C5-993C-9A5E7DAC8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59644-0D5E-4A72-A171-FF977258991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51280" y="1052280"/>
            <a:ext cx="4572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" name="Rectangle 169"/>
          <p:cNvSpPr/>
          <p:nvPr/>
        </p:nvSpPr>
        <p:spPr>
          <a:xfrm>
            <a:off x="4932360" y="1844640"/>
            <a:ext cx="345744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Asus</cp:lastModifiedBy>
  <dcterms:modified xsi:type="dcterms:W3CDTF">2018-11-24T10:06:32Z</dcterms:modified>
  <cp:revision>877</cp:revision>
  <dc:subject/>
  <dc:title>Diapositiva 1</dc:title>
</cp:coreProperties>
</file>