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4B7F-3D6D-42B4-8C45-8F682C473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56A5-B310-40DF-899D-64641435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A3D5-9F0A-4E0F-B771-869AE6744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529E-6352-42E7-9570-E9B291D6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0F30-5615-443F-990E-6A9D5FCC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3DAD-8503-4941-8247-DFBF1A1A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ABF2-540E-41FC-B767-697ADCB0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611D-8B6A-4CA6-A93A-0B70F1FA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D584-A977-46BC-8A67-3E884FEC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7A29-27F2-46E0-8854-0B6BE227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120D-3B29-4A8B-9F7D-76E86E8D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D8CC-DA74-494F-B309-3CFC96AD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BA55-121A-4AE1-858E-6B46B67C83B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360" y="1611720"/>
            <a:ext cx="4537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27600" y="2345400"/>
            <a:ext cx="399240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09:59:39Z</dcterms:modified>
  <cp:revision>577</cp:revision>
  <dc:subject/>
  <dc:title>Diapositiva 1</dc:title>
</cp:coreProperties>
</file>