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6F33-7B3C-43F1-82E3-2925CACA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728D-6B37-40ED-8D18-A1C2CC96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687E-E699-46EB-8ED4-2C6A1095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9DFA-5A79-410C-BAC8-2C838E20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E33-8DC3-4157-8D0D-9F243F66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1D42-4564-4767-ABD5-86C4CE52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2833-F3C0-4FB1-B842-816ABBC7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91E4-E4B0-488C-B78A-D7B62DE3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9C8-8C75-4E27-BAE8-0D98A15E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AC24-3DD1-42E1-BDF2-E36CB368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16D-5383-466F-98E5-FBF1F6DE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1BA6-400E-4DE3-9248-D46CAFD5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9B02-FD4B-4D05-9EB8-C3C65B077B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51280" y="1052280"/>
            <a:ext cx="4572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Rectangle 169"/>
          <p:cNvSpPr/>
          <p:nvPr/>
        </p:nvSpPr>
        <p:spPr>
          <a:xfrm>
            <a:off x="4932360" y="1844640"/>
            <a:ext cx="3457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10:06:32Z</dcterms:modified>
  <cp:revision>877</cp:revision>
  <dc:subject/>
  <dc:title>Diapositiva 1</dc:title>
</cp:coreProperties>
</file>