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880-AFC1-4361-8545-53000503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DBAF-AF7D-4A26-B80B-98FB49D1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EA0-4017-4624-811E-BC6D19FA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1882-3F46-4B37-A244-3BDD695A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D50-C093-4FF5-88DE-473BBA84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8CDC-3740-4B59-B389-16D41932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3AD-BBF1-4A1D-9061-8467D7C6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F10-7195-4AC0-B8F5-894647C1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936-4452-460E-8D66-378078B5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680B-CEB8-440C-97E7-6C3F56CA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7A34-0B88-483A-AEB5-7B24996D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A4A4-074D-434C-B2AD-3362D7A3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86AE-BDCB-486D-8832-ADC31EF2A1C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179280" y="177336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6:01Z</dcterms:modified>
  <cp:revision>685</cp:revision>
  <dc:subject/>
  <dc:title>Diapositiva 1</dc:title>
</cp:coreProperties>
</file>