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8FF4-2821-4414-BE9C-6D19EC1A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2F97-A270-4778-B0F8-846F2903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92BB-0A5B-4A75-9CB1-368E3438F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906B-F008-4698-9114-BC494BF0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7A58-0C9D-47E5-9D97-81EA309C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2536-F6C4-4650-92BC-0F100CBD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54F0-6994-4D3E-9C83-A13EAB0B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6B0A-07C9-4207-8E5B-3981E7A4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5513-1CFD-466E-8752-83AFE2B2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B78A-A24F-411F-8CF9-C33433D2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C954-C0D5-4C03-B4B7-CDFAD003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6A70-E2BE-48FD-86B9-D6B3D3A2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AA3A-777C-4A54-9DCC-8BCDE54BF52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980640"/>
            <a:ext cx="442764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179280" y="1773360"/>
            <a:ext cx="39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10:06:01Z</dcterms:modified>
  <cp:revision>685</cp:revision>
  <dc:subject/>
  <dc:title>Diapositiva 1</dc:title>
</cp:coreProperties>
</file>