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EA5-DDDB-4ABC-BD5A-43374128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17C-EF74-4066-9211-03ED09FD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003-5C19-41BB-BDE6-E98B65EA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6754-5BC9-41B5-B71C-FA8C9B5A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17A-0C6D-4C24-B3EF-91618C7F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D26-9A73-4376-9E4A-55874A8C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BED-A07B-4FEA-953A-F68F36F3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75F-4B74-4230-9C73-705E21A4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07C-9705-42DA-8232-9468A2B4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5CF5-4844-49F6-A52B-17F30DA3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6F0D-73F6-4753-808F-B9F74C83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0CE-1DD0-47A1-A842-7DC1DADC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5B9D-E166-4600-B8B7-7CD88EF07D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2958480"/>
            <a:ext cx="4896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4:51Z</dcterms:modified>
  <cp:revision>698</cp:revision>
  <dc:subject/>
  <dc:title>Diapositiva 1</dc:title>
</cp:coreProperties>
</file>