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6E2B-D873-4F1D-84EC-C5C6867D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752-5587-4547-B183-3B2BB743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E7B-DF5C-4EF5-9D10-D9BA4C7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6DA-A089-47EB-AAD9-93A64AB2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BAF-2B89-45C8-8EF0-5E77547D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CE6-0E97-491A-950F-982B728D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7FC-68FC-4318-AB46-5C8E5C25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BCC-B571-4EE5-8B50-268F6317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564E-9819-4345-B51A-57D333F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C48-3AF8-4F6E-9066-1562EB2F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B4B-E67E-46A8-8A4F-951F6E4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F44-FA23-4A7C-A641-D1650308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F656-FA00-4F62-BE91-F62A16DD2A8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671560"/>
            <a:ext cx="5040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6:47Z</dcterms:modified>
  <cp:revision>587</cp:revision>
  <dc:subject/>
  <dc:title>Diapositiva 1</dc:title>
</cp:coreProperties>
</file>