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F94-E6E4-4DE9-8CDE-EF010651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3027-A030-4FEA-8593-6B71E9C1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E69E-0B5A-4C93-8B88-4BA063BE6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31A-F249-4EA2-9DD6-407CEA0B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123-AF11-4A2C-82CE-E143D3E2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1477-956D-41AF-B9CB-674425D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180-A306-4762-A89B-4A45A0E9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D37-A0BC-49CA-B780-D20DFCF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D52-2E43-4E27-860D-CA384748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6B9A-3C68-4AA1-AD6A-FF832ABA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B34-9E11-4C5F-91C8-4DB77432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DFD-5902-475D-B755-2DF4488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2EAE-9BE9-4230-98C8-4DA034C2528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390400"/>
            <a:ext cx="5656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4:44Z</dcterms:modified>
  <cp:revision>745</cp:revision>
  <dc:subject/>
  <dc:title>Diapositiva 1</dc:title>
</cp:coreProperties>
</file>