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6A4-E920-4FAC-A3D0-BD160288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895-0E9C-4106-A140-28DB8720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AFE-20DA-409A-83E3-81BE56AB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673-9690-4BAF-A169-6FDE3479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72F7-9EFC-437D-97B7-96544C69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778-1E52-4AEE-B2AE-2D99E293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AF5-81B6-4152-9C62-700C1E5B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2D1-FB68-4F7B-BAE6-403B54E9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F1C-BABE-4C38-ADAC-F41FA4E2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A17-FAA2-404A-8D3B-268D915C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FD7-49DA-4163-A6E4-867472AF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823-335A-4762-A96B-A4C805DC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1AB5-DB09-49CE-930B-5C219B3D81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Asus</cp:lastModifiedBy>
  <dcterms:modified xsi:type="dcterms:W3CDTF">2018-11-24T09:41:02Z</dcterms:modified>
  <cp:revision>41</cp:revision>
  <dc:subject/>
  <dc:title>TITLE</dc:title>
</cp:coreProperties>
</file>