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8A6-8A22-423C-904E-49FE34AA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C4B-FEED-4BF5-88A2-EB05731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F66-C003-4D94-88CE-4B75F1C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0EE-F2CD-4CC3-B3BE-53818C58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C09-6215-4D43-A99B-CEA5D3E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8A0-D087-477E-ADB1-2FFE8B90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D1B-E81B-4B3D-BECB-DA85D09D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B34-007A-4211-BC73-8354DD76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A14-5A70-4430-855E-A49957F6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165-D3AB-43C0-9CBE-A3341B02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31C-DA5E-4C25-B993-3D93536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D6D-8BBB-4281-B421-D99A5D5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3C78-281F-409A-8600-E3D2F7E967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636640"/>
            <a:ext cx="597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8-11-24T09:42:21Z</dcterms:modified>
  <cp:revision>10</cp:revision>
  <dc:subject/>
  <dc:title>Diapositiva 1</dc:title>
</cp:coreProperties>
</file>