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513-47C2-463B-A365-22074090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AAD-C834-4A2C-B39B-36BE59E2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31B-6A23-45C2-9813-6D3D06BD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374-1BE0-4379-A9FE-4EDB8AAF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E4D-18C3-4C3A-A921-8ADD2F3A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B18-C9BD-456A-AAD1-F382D88D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0C1-641D-4856-B8E3-C65656B5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304-2E8D-4385-939B-3F957685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789-B56D-42BF-8C61-25BB6C6C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F9B-4A80-4CDF-B63C-30913B98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0BA-D430-4167-9793-CC92D22E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DD1-26D9-4900-A02D-CFF5653A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08E1-E70E-45C7-A3C5-DB5349B11A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41936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44:45Z</dcterms:modified>
  <cp:revision>586</cp:revision>
  <dc:subject/>
  <dc:title>Diapositiva 1</dc:title>
</cp:coreProperties>
</file>