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AC34-7344-4414-B3E7-57CBBD7B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3C0A-3190-4254-B425-74001AD6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07E4-BB3B-46E0-AAB6-C117A9DC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797-F2B1-4760-BFD2-6ECAFF88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7777-69CE-415F-9726-42A304D4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B206-1896-420D-A1B6-7ABE9810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785-6B86-409E-ABE8-8FCDDD40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B11E-70FA-45B8-B754-048A4CBE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867F-F8DF-46B7-9615-7597EE2B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CFB-A129-419F-8D86-ED3CC8E8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B12-D08A-4963-BF8C-3C6D83AC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B59-B8F8-404A-9321-1B8B02B7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24D3-2CAE-42A6-AAFF-9CAEA54012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28:01Z</dcterms:created>
  <dc:creator>Mariajose</dc:creator>
  <dc:description/>
  <dc:language>en-US</dc:language>
  <cp:lastModifiedBy>Asus</cp:lastModifiedBy>
  <dcterms:modified xsi:type="dcterms:W3CDTF">2018-11-24T09:41:02Z</dcterms:modified>
  <cp:revision>41</cp:revision>
  <dc:subject/>
  <dc:title>TITLE</dc:title>
</cp:coreProperties>
</file>