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C8F-4808-4BC7-801F-5E4FDE2C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308-F786-4553-99E6-983E4336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B87-E924-457E-995B-31EFF06A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12C-CAD7-4461-8C6E-33279F48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691-E7C1-4B62-B8C8-59DDCEB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3B1-C2D6-48E0-9FA1-22C11B90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5B8-F8A9-4700-933D-B0CD9FEC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BBC-BF0C-4458-B45C-E1196DA1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25B-6094-4F92-93D1-75DCD1E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84A-D47F-47BA-9A17-704D7B3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4D1-2B04-49CB-89BF-62EA03D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CA3-82D2-4A2E-926E-2BDDD23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FB7-A666-4647-85BF-0725D25EF9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41936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44:45Z</dcterms:modified>
  <cp:revision>586</cp:revision>
  <dc:subject/>
  <dc:title>Diapositiva 1</dc:title>
</cp:coreProperties>
</file>