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F148-2305-42C6-AC65-9ACE97186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81FA-A22E-4852-8FE0-6584EE53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B4CC-2EB9-4742-BD83-C53E88E8E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6C86-A8CD-4FA6-BB60-F408381CD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EF45-74B7-4563-B26D-4A01FBC1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CBA2-7FF4-448B-BE2E-CD2A9302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08B5-DBA1-4B59-BB3E-B96D45DF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98A7-0CA8-4513-B7A7-AF3225F6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D7A3-DF29-421D-A706-025505A7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FB57-40B3-49A4-A13F-9F7403E9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A306-6B99-4134-B4C1-925B4FFE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DD7F-C4F9-449E-AE90-8C82B8CD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1B35-7BF0-4C1B-A266-8E918B42503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280" y="2636640"/>
            <a:ext cx="5973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Asus</cp:lastModifiedBy>
  <dcterms:modified xsi:type="dcterms:W3CDTF">2018-11-24T09:42:21Z</dcterms:modified>
  <cp:revision>10</cp:revision>
  <dc:subject/>
  <dc:title>Diapositiva 1</dc:title>
</cp:coreProperties>
</file>