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2E8-09E6-40CB-A059-81B6A0DC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423A-BFE2-4868-B6DE-FA381EFB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A7D7-EE01-4FEC-9F47-608DE1D9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3A31-94A2-4213-A6D5-E7744A2D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4913-1CFD-4B41-B233-53738CCB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F88C-FD72-4439-A553-CF41B212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BB98-B43D-466E-8595-BF0489B3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DD50-DE18-4802-81A6-9F0D7CF6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A964-BC29-4322-AB98-E6196059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7BFA-CFF3-43C3-808D-476D3EC7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C98-A767-4BC3-8721-8CC8DFF3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31A4-38CC-470D-89D7-891BB073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2F18-5A74-4E51-BB5A-719F603DCF0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28:01Z</dcterms:created>
  <dc:creator>Mariajose</dc:creator>
  <dc:description/>
  <dc:language>en-US</dc:language>
  <cp:lastModifiedBy>Asus</cp:lastModifiedBy>
  <dcterms:modified xsi:type="dcterms:W3CDTF">2018-11-24T09:41:02Z</dcterms:modified>
  <cp:revision>41</cp:revision>
  <dc:subject/>
  <dc:title>TITLE</dc:title>
</cp:coreProperties>
</file>