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EF7-41A5-41E0-97FC-70AE27E0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84AC-6B9E-411A-A50B-2D37E275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FCA-D36D-4BCE-885E-994E038B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CAC-1BD2-46E2-B791-E8E0E9D9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E1F-BE98-4EA4-B1E3-FFA2093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411-71A4-4447-9D6B-17E2C24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C53-3374-4AAD-AE22-71E59FC3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B1A-EE4B-4DBA-AEFD-AE8FD7F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545-9A18-4917-A740-4E7390BC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67D-5500-4CC0-BFF6-4896DFDA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830-D39D-495E-807D-916B74E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436-0FA9-4CF4-B786-48C8516F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9EC3-AF65-43A8-954E-02649839C3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41936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44:45Z</dcterms:modified>
  <cp:revision>586</cp:revision>
  <dc:subject/>
  <dc:title>Diapositiva 1</dc:title>
</cp:coreProperties>
</file>