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4ED-5469-4147-8E5E-B917FB87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11CC-E2C8-475E-99DE-C38FB7D7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175-C45C-457E-8BBE-1F7C0B22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1D5-D4E5-46E4-AB29-5AE42128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C51-7CB5-4EFA-BA94-B4CE9D71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C68-5C68-481A-8912-C83B1E85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61C-3AB1-4C9B-BFB0-714CF46F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44F-FE88-4E07-B331-1073445C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924-91C2-4660-BB29-72F8148E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E46-69C1-42F6-881B-1696028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5CD-3DB3-4E29-9272-DA41A74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E26-02AD-440B-9D19-BCEF4371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ADD1-D5C4-49FA-9DD0-0F5ED1F7F66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2636640"/>
            <a:ext cx="5973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Asus</cp:lastModifiedBy>
  <dcterms:modified xsi:type="dcterms:W3CDTF">2018-11-24T09:42:21Z</dcterms:modified>
  <cp:revision>10</cp:revision>
  <dc:subject/>
  <dc:title>Diapositiva 1</dc:title>
</cp:coreProperties>
</file>