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4AC-0855-4371-91FE-3C440B4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CD7-B583-4113-846F-B4295F6A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1F0-2FF9-40BC-8391-175E9CD5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312-7F9D-4B95-AFC8-D48033DB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329-FD1B-4F20-856E-BAF9BB5F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E60-8B5A-4981-A5F0-4748989B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240-0004-4C8B-9C96-6AB3F4E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5B2-FCB0-40C5-8680-515C6B90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C6F-904B-41E7-B680-99D13446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E2B-E6D2-459B-890A-C4F194E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346-EE1C-4EEA-903C-FBF9DDD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4AE-723F-45F2-B16F-877D8DC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CD6-E1B9-4B4B-8C26-E156FF6CE7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sus</cp:lastModifiedBy>
  <dcterms:modified xsi:type="dcterms:W3CDTF">2018-11-24T09:31:07Z</dcterms:modified>
  <cp:revision>54</cp:revision>
  <dc:subject/>
  <dc:title>Texto</dc:title>
</cp:coreProperties>
</file>