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8A3-C77B-4C15-9EB1-F8A8C1B0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CC1-4C49-48CA-9622-67D748A4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41E-8E11-4C15-A258-B807167A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ABD-0DA2-436C-A296-A882FBB8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672-D896-41A8-A02A-4F0EEAE4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786D-C6DF-4CDC-B08C-22EEA022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446E-6658-4C7D-8C05-5AB32A74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0F4A-771F-48C8-8A52-00ED9C76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129-6B2D-4E0B-80F2-DB8F2038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40F-8D6F-45EB-BCB0-01315048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D34-5F24-460B-9412-A83A4894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F84B-4583-48FE-8E45-E389C8EC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A5A1-A438-4A95-8FEA-61F51E208D0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29:37Z</dcterms:modified>
  <cp:revision>377</cp:revision>
  <dc:subject/>
  <dc:title>Diapositiva 1</dc:title>
</cp:coreProperties>
</file>