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C60-8E03-4DA5-B518-4F685BC4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A66-FEC7-4CC1-9120-2CC655D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21C-6DCF-41E8-82AB-F31C1FCA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291-7941-4F25-AF6E-6A6BEFD5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BA8-F20D-4145-AFAF-EB4FBFD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F87-BBCC-42BC-BC88-37FFBC0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82B-4252-4523-8DB4-787B652A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A97-D1F7-4A8F-A024-8F0EB0DF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FB4-2ADE-448E-AA28-8CB5F91B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1E6-C3F1-4759-985E-B3A3DD5A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4B8-EC2A-4D4B-AD81-AC7054A2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996-D189-463C-9628-B19584DD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EE81-4A93-4846-B622-22ED638F48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29:37Z</dcterms:modified>
  <cp:revision>377</cp:revision>
  <dc:subject/>
  <dc:title>Diapositiva 1</dc:title>
</cp:coreProperties>
</file>