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14F-E0B2-4E8D-A3B3-471213F4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87F-858C-48F9-A8F5-6F20325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9D7-4F2F-48EE-92DD-E4D26DB6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749-5018-45B8-A0B0-38F5D1DF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133-E48B-49CA-97AE-C6E3FA5E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219-9E34-43D6-BF86-7082A55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D06-2D45-414E-B1D2-25242708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790-F1A0-4408-99C4-929C0A31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04F-0423-4ACC-ABA2-5412547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762-9C8A-4570-882E-51F23EA3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48E-DA7B-4E76-B963-48C7296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AFA-AE42-4653-9518-2A0D5DB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F50C-24B1-4DB3-B9D1-CF5260AFCF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sus</cp:lastModifiedBy>
  <dcterms:modified xsi:type="dcterms:W3CDTF">2018-11-24T09:31:07Z</dcterms:modified>
  <cp:revision>54</cp:revision>
  <dc:subject/>
  <dc:title>Texto</dc:title>
</cp:coreProperties>
</file>