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3C6-75A5-4E5E-8E30-23A8BFDE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22F-35C2-45D9-B336-ECF3F401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35D-303C-4A72-915A-60B999C8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5DE-8E41-41FF-B252-FD14E9F8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9CE-7AE1-43C2-BE9D-9CF8A9AB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660-0822-47EE-8A48-8E000D79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405-3F9E-4E17-A1BD-CBCB73D3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245A-7D91-46E1-ABC4-6045D146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5A2-0ACE-4198-B807-C79F5E60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B31-EBA3-4BE0-9714-51F10B9E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59D-1F29-4B70-9D1B-7F71E2E2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D7F-0D25-4689-9CB6-B00A3881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768A-C243-4C55-8C90-C170B46DFA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3316-31C7-42E1-8F00-FD695DE81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ỘT SỐ KHÁI NIỆM CƠ BẢ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724760"/>
            <a:ext cx="88390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ông gian n chiề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bộ gồm n số thực được sắp xếp thứ tự, ký hiệu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) được gọi là một điểm n - chiều. Tập hợp các điểm n - chiều được ký hiệu là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toạ độ thứ i của điểm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383-BADE-44D0-B4E4-56A7D94D2264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71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riêng cấp ca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 hàm số f(x,y). Các đạo hàm riêng f’x, f’y được gọi là những đạo hàm riêng cấp 1. Các đạo hàm riêng của đạo hàm riêng cấp 1 nếu tồn tại được gọi là đạo hàm riêng cấ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1960" y="3103560"/>
                <a:ext cx="3695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57800" y="3090960"/>
                <a:ext cx="38448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9360" y="4194000"/>
                <a:ext cx="3846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449600" y="4194000"/>
                <a:ext cx="3835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5347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ta có định nghĩa đạo hàm riêng cấp 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315-E95C-4887-A39A-617FBABA7740}" type="slidenum">
              <a:t>10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61280" y="53190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1158120"/>
            <a:ext cx="8915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Schwarz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rong lân cận nào đó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tồn tại các đạo hàm riêng và liên tục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lý này cũng đúng cho các đạo hàm riêng cấp cao hơn của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B85-3C09-4F55-92BC-CC22EA317F28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92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hợ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z = f(u,v) là các hàm số khả vi của u,v và các hàm số u = u(x,y), v = v(x,y) có các đạo hàm riêng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tồn tại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63520" y="3220920"/>
                <a:ext cx="2762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68920" y="3220920"/>
                <a:ext cx="276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880" y="4419000"/>
            <a:ext cx="61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v, u = xy, v = x/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2B0-4A6A-498E-A69D-6FB175E37B98}" type="slidenum">
              <a:t>12</a:t>
            </a:fld>
          </a:p>
        </p:txBody>
      </p:sp>
    </p:spTree>
  </p:cSld>
  <p:transition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37600" y="50727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2114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ĐẠO HÀM HÀM 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4120"/>
            <a:ext cx="91440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1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tồn tại hàm y = f(x) sao cho F(x,f(x))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được gọi là hàm số ẩn từ phương trình F(x,y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BA1-E257-4721-89D2-1E137CE092ED}" type="slidenum">
              <a:t>13</a:t>
            </a:fld>
          </a:p>
        </p:txBody>
      </p:sp>
    </p:spTree>
  </p:cSld>
  <p:transition>
    <p:cover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40" y="115812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1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49160" y="1758960"/>
                <a:ext cx="1244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09080" y="2890440"/>
            <a:ext cx="51537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y’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xy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346-0D9C-41B2-9AB0-ECD210143C49}" type="slidenum">
              <a:t>14</a:t>
            </a:fld>
          </a:p>
        </p:txBody>
      </p:sp>
    </p:spTree>
  </p:cSld>
  <p:transition>
    <p:cover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2193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F(x,y,z) = 0. Nếu tồn tại hàm số hai biến z = f(x,y) sao cho F(x,y,z) = 0, với mọi x, y thuộc miền xác định của f, thì f gọi là hàm ẩn từ phương trình F(x,y,z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440" y="309168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2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2040" y="3763800"/>
                <a:ext cx="14144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68600" y="3695760"/>
                <a:ext cx="1400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948120" y="35316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00" y="4860720"/>
            <a:ext cx="61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xyz = cos(x+y+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9D8-DC3E-4990-9A8E-0AA6145B271E}" type="slidenum">
              <a:t>15</a:t>
            </a:fld>
          </a:p>
        </p:txBody>
      </p:sp>
    </p:spTree>
  </p:cSld>
  <p:transition>
    <p:cover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18728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1691280"/>
            <a:ext cx="90676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tự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đạt cực đại (cực tiểu) tại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 tồn tại một lân cậ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gọi chung là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840" y="40377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ủa hàm số 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511160"/>
            <a:ext cx="9144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để có cực tr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ủa f và f có đạo hàm riêng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: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,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9D9-12AC-421F-B4A3-72567C32410D}" type="slidenum">
              <a:t>16</a:t>
            </a:fld>
          </a:p>
        </p:txBody>
      </p:sp>
    </p:spTree>
  </p:cSld>
  <p:transition>
    <p:cover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1280" y="54190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1312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z = f(x,y). Tại những điểm thỏa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, ta gọi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x – 2y + 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05040" y="2162160"/>
                <a:ext cx="21718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50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66880" y="3305160"/>
                <a:ext cx="4010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432828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59D-82D0-4A21-98F3-63DA597136BB}" type="slidenum">
              <a:t>17</a:t>
            </a:fld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08000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Tại những điểm thỏa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giả sử tại đó tồn tại các đạo hàm riêng cấp 2, đặ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có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2057400"/>
                <a:ext cx="1247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2590920"/>
                <a:ext cx="74296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458712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80464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2y – 4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66F-390A-4787-9F82-EA2ABF0CEBB8}" type="slidenum">
              <a:t>18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264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ực trị của hàm số z = f(x,y) với điều kiện g(x,y) = c gọi là cực trị có điều k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55800" y="3886200"/>
                <a:ext cx="298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553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nhân tử Lagrange,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ủa hệ trên gọi là điểm dừ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552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ó điều kiện trê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hàm Lagrange: L(x,y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f(x,y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(x,y)) với 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ông đồng thời bằng 0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07F-53B3-49A5-8461-090E76C5F6CE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1312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oảng cách 2 điể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 =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65400" y="2038320"/>
                <a:ext cx="325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76320" y="3330360"/>
            <a:ext cx="90676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ột số tính chất của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; d(x,y) =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d(x,y) = d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x,z) + d 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67B-2895-49C7-96B7-AB232DB39B6D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iểm dừng của z(x,y), với điều kiện x + y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676520"/>
                <a:ext cx="2413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19492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c. Hàm Lagrang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 = f + </a:t>
            </a:r>
            <a:r>
              <a:rPr b="0" lang="en-US" sz="2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c-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24280" y="3305160"/>
                <a:ext cx="279072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923-393D-4EC3-B02E-44E606991588}" type="slidenum">
              <a:t>20</a:t>
            </a:fld>
          </a:p>
        </p:txBody>
      </p:sp>
    </p:spTree>
  </p:cSld>
  <p:transition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570320"/>
            <a:ext cx="883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, g có đạo hàm riêng cấp hai liên tục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03680" y="2467080"/>
                <a:ext cx="29368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419112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gt;0: f đạt cực đại có điều kiệ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lt;0: f đạt cực đại có điều k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57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ó điều kiệ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6 – 4x – 3y 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để có 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578-CFCB-4EA3-8E20-3E6045DA8B95}" type="slidenum">
              <a:t>21</a:t>
            </a:fld>
          </a:p>
        </p:txBody>
      </p:sp>
    </p:spTree>
  </p:cSld>
  <p:transition>
    <p:push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052640"/>
            <a:ext cx="914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ét hàm số f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= c.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m Lagrange: L = f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). Xét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a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066760" y="2514600"/>
                <a:ext cx="44863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519660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D2F-8FD9-4D17-BFCE-7C63279C3F9B}" type="slidenum">
              <a:t>22</a:t>
            </a:fld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84960" y="54093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12189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u = x – 2y + 2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BE6-04EA-458B-896B-707D0C8AB4BF}" type="slidenum">
              <a:t>23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89080"/>
            <a:ext cx="8763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biê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biên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ọi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ều chứa ít nhất các điểm x, y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Tập hợp mọi điểm biên của D được gọi là biên của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08360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ân c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số r &gt; 0. Tập S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) = {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(x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r} được gọi là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04228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tro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trong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 chứa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đó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00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mở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không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BCE-912B-4F53-985A-992FCC988F74}" type="slidenum">
              <a:t>3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11426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được gọi là hàm số 2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68720" y="1676520"/>
                <a:ext cx="3094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320" y="206892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miền xác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D) = {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z = f(x,y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} gọi là miền giá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3195360"/>
            <a:ext cx="427284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iền xác đị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2x – 3y 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ln(x + y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8600" y="3683160"/>
                <a:ext cx="2209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6320" y="4844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n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được gọi là hàm số n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504800" y="5829480"/>
                <a:ext cx="5239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947-2407-493B-B409-D86184613DEB}" type="slidenum">
              <a:t>4</a:t>
            </a:fld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GIỚI HẠN VÀ TÍNH LIÊN TỤC CỦA HÀM S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61400"/>
            <a:ext cx="9067680" cy="20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ới hạn hàm số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f(x,y) xác định tại lân cậ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có thể  không xác định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ố thực L được gọi là giới hạn của f khi M(x,y) tiến đế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: d(M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M) – 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744560" y="3975120"/>
                <a:ext cx="480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,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-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-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8600" y="4971960"/>
                <a:ext cx="2184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17640" y="4986360"/>
                <a:ext cx="333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426360" y="4927680"/>
                <a:ext cx="2304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EA1-B34D-4AD8-BE8B-ACC0C1CD6E12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6600"/>
            <a:ext cx="90676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ái niệm vô hạn cũng được định nghĩa tương tự như đối với hàm số một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định lý về giới hạn của tổng, tích, thương đối với hàm số một biến cũng đúng cho hàm số nhiều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72024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62720" y="3551400"/>
                <a:ext cx="304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3492360"/>
                <a:ext cx="353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AEA-835B-40BF-AFAE-BA5C7F318DDE}" type="slidenum">
              <a:t>6</a:t>
            </a:fld>
          </a:p>
        </p:txBody>
      </p:sp>
    </p:spTree>
  </p:cSld>
  <p:transition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320" y="1112760"/>
            <a:ext cx="871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ên tục của hà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được gọi là liên tục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73240" y="1735200"/>
                <a:ext cx="44038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2543040"/>
            <a:ext cx="884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(x,y) liên tục trên một tập đóng và bị chặn trên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ồn tại số 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f(x,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đạt giá trị lớn nhất và nhỏ nhất trê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495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ương tự ta có thể định nghĩa giới hạn và sự liên tục của hàm số đối với hàm n biến (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≥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030-312A-4BB8-A64B-58763B0C147B}" type="slidenum">
              <a:t>7</a:t>
            </a:fld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219320"/>
            <a:ext cx="8763120" cy="4597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ĐẠO HÀM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40240"/>
            <a:ext cx="88390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z = f(x,y) xác định trong miền D,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Nếu cho 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hằng số, hàm số một biến f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ó đạo hàm tại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được gọi là đạo hàm riêng của f đối với x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44760" y="3657600"/>
                <a:ext cx="5033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4618080"/>
            <a:ext cx="906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Số gia riêng của f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03400" y="5389560"/>
                <a:ext cx="22021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4E8-F61C-4D47-AAE9-70C80054D104}" type="slidenum">
              <a:t>8</a:t>
            </a:fld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504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ịnh nghĩa đạo hàm riêng của f theo biế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30680" y="1620720"/>
                <a:ext cx="2092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y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266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ạo hàm riêng đối với hàm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373320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08240" y="4309920"/>
                <a:ext cx="318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05080" y="5021280"/>
                <a:ext cx="944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34C-C0DB-4627-AE91-063C6E981EAC}" type="slidenum">
              <a:t>9</a:t>
            </a:fld>
          </a:p>
        </p:txBody>
      </p:sp>
    </p:spTree>
  </p:cSld>
  <p:transition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m</cp:lastModifiedBy>
  <dcterms:modified xsi:type="dcterms:W3CDTF">2009-11-08T13:28:05Z</dcterms:modified>
  <cp:revision>788</cp:revision>
  <dc:subject/>
  <dc:title>Nguyên lý thống kê</dc:title>
</cp:coreProperties>
</file>