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AC6-3B48-4CBD-B3FE-45913C01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2C3-7E2C-43BD-BF50-A438DB8A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9F5-0E73-4853-AB30-A38AE49F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4D8-9F8C-4890-9157-DEBFF40D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861-C3EF-4324-AAC9-9CBD1D86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001-5386-48BD-8E3A-412AB17C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E31-0140-40E3-9D12-E11D0850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119-8FC3-477C-B4FE-54C1A5DC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4F7-A14C-4414-980F-C030DC0F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9A0-5223-4561-89EA-B484682D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9BC-6B8D-4684-AE0F-C68EBD8F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E07-60C2-4568-8286-C976F41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7AEC-1749-4E1B-912E-5005C04CD2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246B-7990-4396-8C13-226B29991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ỘT SỐ KHÁI NIỆM CƠ BẢ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724760"/>
            <a:ext cx="8839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ông gian n chiề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bộ gồm n số thực được sắp xếp thứ tự, ký hiệu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) được gọi là một điểm n - chiều. Tập hợp các điểm n - chiều được ký hiệu là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toạ độ thứ i của điểm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C6D-AF46-4D5A-8517-765F70F24E98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71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riêng cấp ca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 hàm số f(x,y). Các đạo hàm riêng f’x, f’y được gọi là những đạo hàm riêng cấp 1. Các đạo hàm riêng của đạo hàm riêng cấp 1 nếu tồn tại được gọi là đạo hàm riêng cấ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1960" y="3103560"/>
                <a:ext cx="3695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7800" y="3090960"/>
                <a:ext cx="384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9360" y="4194000"/>
                <a:ext cx="3846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49600" y="4194000"/>
                <a:ext cx="3835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534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ta có định nghĩa đạo hàm riêng cấp 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AC1-88DC-4AF6-9DB2-3F5878B1526A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53190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15812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Schwarz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rong lân cận nào đó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tồn tại các đạo hàm riêng và liên tục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lý này cũng đúng cho các đạo hàm riêng cấp cao hơn của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2BF-9319-4E4D-84B8-50C551CFF21B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hợ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z = f(u,v) là các hàm số khả vi của u,v và các hàm số u = u(x,y), v = v(x,y) có các đạo hàm riê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tồn tại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63520" y="3220920"/>
                <a:ext cx="2762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68920" y="3220920"/>
                <a:ext cx="276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880" y="4419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v, u = xy, v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AB2-C956-496D-B1F4-6ABACCECD6BE}" type="slidenum">
              <a:t>12</a:t>
            </a:fld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37600" y="50727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2114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ĐẠO HÀM HÀM 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4120"/>
            <a:ext cx="91440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1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tồn tại hàm y = f(x) sao cho F(x,f(x))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được gọi là hàm số ẩn từ phương trình F(x,y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409-B3B2-427C-93D6-AC39F8638C5E}" type="slidenum">
              <a:t>13</a:t>
            </a:fld>
          </a:p>
        </p:txBody>
      </p:sp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115812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1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49160" y="1758960"/>
                <a:ext cx="1244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09080" y="2890440"/>
            <a:ext cx="51537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y’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x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17B-8D45-4DFC-87C8-BB3C556159AB}" type="slidenum">
              <a:t>14</a:t>
            </a:fld>
          </a:p>
        </p:txBody>
      </p:sp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F(x,y,z) = 0. Nếu tồn tại hàm số hai biến z = f(x,y) sao cho F(x,y,z) = 0, với mọi x, y thuộc miền xác định của f, thì f gọi là hàm ẩn từ phương trình F(x,y,z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440" y="309168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2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2040" y="3763800"/>
                <a:ext cx="14144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68600" y="3695760"/>
                <a:ext cx="1400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48120" y="353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" y="4860720"/>
            <a:ext cx="61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xyz = cos(x+y+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811-D866-4A30-96FD-3D721DCD3C36}" type="slidenum">
              <a:t>15</a:t>
            </a:fld>
          </a:p>
        </p:txBody>
      </p:sp>
    </p:spTree>
  </p:cSld>
  <p:transition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8728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91280"/>
            <a:ext cx="90676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tự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đạt cực đại (cực tiểu) tại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 tồn tại một lân cậ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ọi chung là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40377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ủa hàm số 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51116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để có cực tr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ủa f và f có đạo hàm riêng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: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,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0E6-3685-492C-A40F-DFB10B48DB70}" type="slidenum">
              <a:t>16</a:t>
            </a:fld>
          </a:p>
        </p:txBody>
      </p:sp>
    </p:spTree>
  </p:cSld>
  <p:transition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1280" y="5419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312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z = f(x,y). Tại những điểm thỏa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, ta gọi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x – 2y + 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5040" y="2162160"/>
                <a:ext cx="2171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50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6880" y="3305160"/>
                <a:ext cx="4010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32828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54B-EA44-4863-8BBC-BB0BE50BB65F}" type="slidenum">
              <a:t>17</a:t>
            </a:fld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8000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Tại những điểm thỏa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giả sử tại đó tồn tại các đạo hàm riêng cấp 2, đặ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có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2057400"/>
                <a:ext cx="1247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590920"/>
                <a:ext cx="74296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58712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80464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2y – 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DC4-B4FF-4A66-B95D-5735C2D213E4}" type="slidenum">
              <a:t>18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264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ực trị của hàm số z = f(x,y) với điều kiện g(x,y) = c gọi là cực trị có điều k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55800" y="3886200"/>
                <a:ext cx="298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553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nhân tử Lagrange,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ủa hệ trên gọi là điểm d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552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ó điều kiện trê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hàm Lagrange: L(x,y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f(x,y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(x,y)) với 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ông đồng thời bằng 0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DD5-56AE-4935-B020-45A1372A5F88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31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oảng cách 2 điể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65400" y="2038320"/>
                <a:ext cx="325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76320" y="3330360"/>
            <a:ext cx="90676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số tính chất của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; d(x,y) =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d(x,y) = d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x,z) + d 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8B8-5084-40F7-A5AD-516376C584B7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iểm dừng của z(x,y), với điều kiện x + y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676520"/>
                <a:ext cx="2413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19492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c. Hàm Lagrang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 = f + </a:t>
            </a:r>
            <a:r>
              <a:rPr b="0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c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24280" y="3305160"/>
                <a:ext cx="279072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AB4-7D44-47EB-BB83-DAC839425461}" type="slidenum">
              <a:t>20</a:t>
            </a:fld>
          </a:p>
        </p:txBody>
      </p:sp>
    </p:spTree>
  </p:cSld>
  <p:transition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570320"/>
            <a:ext cx="883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, g có đạo hàm riêng cấp hai liên tục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3680" y="2467080"/>
                <a:ext cx="2936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41911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gt;0: f đạt cực đại có điều kiệ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lt;0: f đạt cực đại có điều k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57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ó điều kiệ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6 – 4x – 3y 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để có 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61D-04C9-48FE-8770-4B7FF9FD45FD}" type="slidenum">
              <a:t>21</a:t>
            </a:fld>
          </a:p>
        </p:txBody>
      </p:sp>
    </p:spTree>
  </p:cSld>
  <p:transition>
    <p:push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ét hàm số f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= c.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m Lagrange: L = f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). Xét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a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066760" y="2514600"/>
                <a:ext cx="44863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519660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D13-E06F-4F06-8336-FB48B2CC086D}" type="slidenum">
              <a:t>22</a:t>
            </a:fld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84960" y="5409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2189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u = x – 2y + 2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D60-6B93-4CDC-93A8-E03AFF39F5FD}" type="slidenum">
              <a:t>23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89080"/>
            <a:ext cx="8763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biê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biên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ọi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ều chứa ít nhất các điểm x, y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Tập hợp mọi điểm biên của D được gọi là biên củ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08360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ân c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số r &gt; 0. Tập S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) = {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(x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r} được gọi là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04228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tro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trong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 chứa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đó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0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mở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không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3F6-7C13-4BE8-BF27-1BA9711E782F}" type="slidenum">
              <a:t>3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11426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được gọi là hàm số 2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68720" y="1676520"/>
                <a:ext cx="3094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320" y="206892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miền xác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D) = {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z = f(x,y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} gọi là miền giá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3195360"/>
            <a:ext cx="42728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iền xác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2x – 3y 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ln(x + y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3683160"/>
                <a:ext cx="2209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6320" y="4844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n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được gọi là hàm số n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504800" y="5829480"/>
                <a:ext cx="523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F23-717D-4E17-95B9-8377A59758E9}" type="slidenum">
              <a:t>4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GIỚI HẠN VÀ TÍNH LIÊN TỤC CỦA HÀM S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61400"/>
            <a:ext cx="9067680" cy="20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ới hạn hàm số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f(x,y) xác định tại lân cậ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có thể  không xác định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ố thực L được gọi là giới hạn của f khi M(x,y) tiến đế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: d(M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M) –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44560" y="3975120"/>
                <a:ext cx="480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,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-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-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" y="4971960"/>
                <a:ext cx="2184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17640" y="4986360"/>
                <a:ext cx="333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26360" y="4927680"/>
                <a:ext cx="2304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0C5-D58B-4A8E-BF27-2B0826B32EF9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6600"/>
            <a:ext cx="9067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i niệm vô hạn cũng được định nghĩa tương tự như đối với hàm số một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định lý về giới hạn của tổng, tích, thương đối với hàm số một biến cũng đúng cho hàm số nhiều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72024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62720" y="3551400"/>
                <a:ext cx="304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3492360"/>
                <a:ext cx="353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4BF-27E2-4B64-87B4-474C12814FD6}" type="slidenum">
              <a:t>6</a:t>
            </a:fld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20" y="1112760"/>
            <a:ext cx="871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ên tục của hà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được gọi là liên tục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73240" y="1735200"/>
                <a:ext cx="4403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2543040"/>
            <a:ext cx="88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(x,y) liên tục trên một tập đóng và bị chặn trên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ồn tại số 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f(x,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đạt giá trị lớn nhất và nhỏ nhất trê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95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ương tự ta có thể định nghĩa giới hạn và sự liên tục của hàm số đối với hàm n biến (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≥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0CF-0F41-403E-AC10-7C161C8B9310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ĐẠO HÀM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40240"/>
            <a:ext cx="8839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z = f(x,y) xác định trong miền D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Nếu cho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hằng số, hàm số một biến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ó đạo hàm tại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được gọi là đạo hàm riêng của f đối với x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44760" y="3657600"/>
                <a:ext cx="503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4618080"/>
            <a:ext cx="906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Số gia riêng của f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03400" y="5389560"/>
                <a:ext cx="22021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4DA-AD55-4B37-A9B1-25D973F38D71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04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ịnh nghĩa đạo hàm riêng của f theo biế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30680" y="1620720"/>
                <a:ext cx="2092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y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66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ạo hàm riêng đối với hàm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08240" y="4309920"/>
                <a:ext cx="318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05080" y="5021280"/>
                <a:ext cx="944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597-827A-4586-96DE-D3FEF2E250FD}" type="slidenum">
              <a:t>9</a:t>
            </a:fld>
          </a:p>
        </p:txBody>
      </p:sp>
    </p:spTree>
  </p:cSld>
  <p:transition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m</cp:lastModifiedBy>
  <dcterms:modified xsi:type="dcterms:W3CDTF">2009-11-08T13:28:05Z</dcterms:modified>
  <cp:revision>788</cp:revision>
  <dc:subject/>
  <dc:title>Nguyên lý thống kê</dc:title>
</cp:coreProperties>
</file>