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3BE-C7C7-4217-A1D9-058BF755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00BA-0729-45AB-A114-F5CC3063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925-6763-4C6D-B554-1FF22065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2178-8166-47CF-BB2D-E180E950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E217-1E65-4C9D-B559-C847BB33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C2F8-D06A-4703-92A3-05501717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B2F-512F-4CE2-9A39-9F7A3E17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CCB-488F-4E4E-A082-97F24D29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0B5-34CF-4B7B-BCB5-4BBFEC42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44C8-870A-444C-9E7E-AF6899A2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6FE4-0C80-4C05-9C31-0FF8C982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3E0B-2652-4469-81EB-1833EC44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9334-686C-4167-A79E-ED8311F26D8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CE8E-F0BF-4109-8A15-1C3526E4B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MỘT SỐ KHÁI NIỆM CƠ BẢ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1724760"/>
            <a:ext cx="883908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hông gian n chiều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bộ gồm n số thực được sắp xếp thứ tự, ký hiệu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i = 1,.. n) được gọi là một điểm n - chiều. Tập hợp các điểm n - chiều được ký hiệu là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{x =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i = 1,.. n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toạ độ thứ i của điểm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6E83-C86E-42A2-986A-E2685A535025}" type="slidenum">
              <a:t>1</a:t>
            </a:fld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714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riêng cấp cao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 hàm số f(x,y). Các đạo hàm riêng f’x, f’y được gọi là những đạo hàm riêng cấp 1. Các đạo hàm riêng của đạo hàm riêng cấp 1 nếu tồn tại được gọi là đạo hàm riêng cấp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91960" y="3103560"/>
                <a:ext cx="3695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357800" y="3090960"/>
                <a:ext cx="384480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79360" y="4194000"/>
                <a:ext cx="38466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449600" y="4194000"/>
                <a:ext cx="38354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5347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, ta có định nghĩa đạo hàm riêng cấp 3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F1B-3142-4A08-B3BA-DEFD5A8B90A4}" type="slidenum">
              <a:t>10</a:t>
            </a:fld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61280" y="53190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320" y="1158120"/>
            <a:ext cx="891540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(Schwarz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trong lân cận nào đó của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(x,y) tồn tại các đạo hàm riêng và liên tục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lý này cũng đúng cho các đạo hàm riêng cấp cao hơn của n biến số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7000" y="28188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FDE-72A6-4F2B-B111-4FD47B807F87}" type="slidenum">
              <a:t>11</a:t>
            </a:fld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1920"/>
            <a:ext cx="91440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hợ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z = f(u,v) là các hàm số khả vi của u,v và các hàm số u = u(x,y), v = v(x,y) có các đạo hàm riêng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tồn tại các đạo hàm riê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163520" y="3220920"/>
                <a:ext cx="27622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768920" y="3220920"/>
                <a:ext cx="2768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807000" y="28188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1880" y="4419000"/>
            <a:ext cx="61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z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v, u = xy, v = x/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EE6D-DB53-4EEF-BE36-2077F94A9A45}" type="slidenum">
              <a:t>12</a:t>
            </a:fld>
          </a:p>
        </p:txBody>
      </p:sp>
    </p:spTree>
  </p:cSld>
  <p:transition>
    <p:cover dir="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37600" y="50727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2114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ĐẠO HÀM HÀM 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824120"/>
            <a:ext cx="914400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 hàm số ẩn 1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phương trìn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tồn tại hàm y = f(x) sao cho F(x,f(x)) =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được gọi là hàm số ẩn từ phương trình F(x,y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61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y –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2569-59C3-4EB4-8E40-95E0E8150674}" type="slidenum">
              <a:t>13</a:t>
            </a:fld>
          </a:p>
        </p:txBody>
      </p:sp>
    </p:spTree>
  </p:cSld>
  <p:transition>
    <p:cover dir="l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440" y="1158120"/>
            <a:ext cx="549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ẩn 1 biế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49160" y="1758960"/>
                <a:ext cx="1244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09080" y="2890440"/>
            <a:ext cx="515376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y’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xy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xy –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906-B7B5-44F3-8CB4-3EDB077C1F26}" type="slidenum">
              <a:t>14</a:t>
            </a:fld>
          </a:p>
        </p:txBody>
      </p:sp>
    </p:spTree>
  </p:cSld>
  <p:transition>
    <p:cover dir="l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121932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 hàm số ẩn 2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phương trình F(x,y,z) = 0. Nếu tồn tại hàm số hai biến z = f(x,y) sao cho F(x,y,z) = 0, với mọi x, y thuộc miền xác định của f, thì f gọi là hàm ẩn từ phương trình F(x,y,z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440" y="3091680"/>
            <a:ext cx="549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ẩn 2 biế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62040" y="3763800"/>
                <a:ext cx="1414440" cy="9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68600" y="3695760"/>
                <a:ext cx="14000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948120" y="35316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800" y="4860720"/>
            <a:ext cx="619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xyz = cos(x+y+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149-012B-4EFB-8BAB-3B1A5CC11129}" type="slidenum">
              <a:t>15</a:t>
            </a:fld>
          </a:p>
        </p:txBody>
      </p:sp>
    </p:spTree>
  </p:cSld>
  <p:transition>
    <p:cover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18728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CỰC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1691280"/>
            <a:ext cx="906768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 tự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(x,y) đạt cực đại (cực tiểu) tại điểm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nếu tồn tại một lân cậ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 f(M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(M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gọi chung là cực tr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840" y="4037760"/>
            <a:ext cx="65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của hàm số 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4511160"/>
            <a:ext cx="9144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cần để có cực tr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cực trị của f và f có đạo hàm riêng tại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ì: f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, f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69DE-ECC2-43B6-A021-2665242BD3CD}" type="slidenum">
              <a:t>16</a:t>
            </a:fld>
          </a:p>
        </p:txBody>
      </p:sp>
    </p:spTree>
  </p:cSld>
  <p:transition>
    <p:cover dir="r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61280" y="54190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11312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z = f(x,y). Tại những điểm thỏa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, ta gọi định thức Hessi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33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x – 2y + 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05040" y="2162160"/>
                <a:ext cx="21718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504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866880" y="3305160"/>
                <a:ext cx="40100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4328280"/>
            <a:ext cx="9144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6540-0BE7-421D-93E2-FF61F76D15A3}" type="slidenum">
              <a:t>17</a:t>
            </a:fld>
          </a:p>
        </p:txBody>
      </p:sp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080000"/>
            <a:ext cx="9067680" cy="20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Tại những điểm thỏa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 giả sử tại đó tồn tại các đạo hàm riêng cấp 2, đặ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 có định thức Hessi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867280" y="2057400"/>
                <a:ext cx="1247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14400" y="2590920"/>
                <a:ext cx="742968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4587120"/>
            <a:ext cx="9144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…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…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80464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3x - 2y – 4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60BF-59E6-4169-B34F-00E2B8BB13FA}" type="slidenum">
              <a:t>18</a:t>
            </a:fld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14264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 có điều kiệ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ực trị của hàm số z = f(x,y) với điều kiện g(x,y) = c gọi là cực trị có điều kiệ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755800" y="3886200"/>
                <a:ext cx="29847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553068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 nhân tử Lagrange, điểm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ủa hệ trên gọi là điểm dừ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455200"/>
            <a:ext cx="88390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cực trị có điều kiện trê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hàm Lagrange: L(x,y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f(x,y)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-g(x,y)) với g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g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hông đồng thời bằng 0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A5A6-70DA-4C38-9C40-70F1609B187D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1312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hoảng cách 2 điể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=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y = 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065400" y="2038320"/>
                <a:ext cx="32590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76320" y="3330360"/>
            <a:ext cx="90676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ột số tính chất của 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d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; d(x,y) = 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=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d(x,y) = d(y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d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(x,z) + d (z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2A99-C976-4667-9B50-70DD4A854F5A}" type="slidenum">
              <a:t>2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iểm dừng của z(x,y), với điều kiện x + y =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81280" y="1676520"/>
                <a:ext cx="24130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2194920"/>
            <a:ext cx="9144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ở rộng hàm n biế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với điều kiện g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c. Hàm Lagrang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L = f + </a:t>
            </a:r>
            <a:r>
              <a:rPr b="0" lang="en-US" sz="28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c-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924280" y="3305160"/>
                <a:ext cx="2790720" cy="26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55DB-65F0-4318-8EFC-862EDF44F0B9}" type="slidenum">
              <a:t>20</a:t>
            </a:fld>
          </a:p>
        </p:txBody>
      </p:sp>
    </p:spTree>
  </p:cSld>
  <p:transition>
    <p:newsflash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320" y="1570320"/>
            <a:ext cx="8839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, g có đạo hàm riêng cấp hai liên tục tại điểm dừng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ét định thức Hessian đó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803680" y="2467080"/>
                <a:ext cx="293688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419112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|&gt;0: f đạt cực đại có điều kiệ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|&lt;0: f đạt cực đại có điều kiệ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2578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có điều kiện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6 – 4x – 3y với điều kiện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để có cực trị có điều kiệ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2769-F958-4413-A9F5-1B337DFB7A39}" type="slidenum">
              <a:t>21</a:t>
            </a:fld>
          </a:p>
        </p:txBody>
      </p:sp>
    </p:spTree>
  </p:cSld>
  <p:transition>
    <p:push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052640"/>
            <a:ext cx="91440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ở rộng hàm n biế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ét hàm số f(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 với điều kiện g(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 = c.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m Lagrange: L = f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-g). Xét tại điểm dừng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ta xét định thức Hessian đó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066760" y="2514600"/>
                <a:ext cx="44863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0" y="5196600"/>
            <a:ext cx="9144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…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…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1C15-C865-4D30-A287-C18ADF5B1108}" type="slidenum">
              <a:t>22</a:t>
            </a:fld>
          </a:p>
        </p:txBody>
      </p:sp>
    </p:spTree>
  </p:cSld>
  <p:transition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84960" y="54093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0" y="121896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u = x – 2y + 2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ới điều kiện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2EC9-AB49-4C8E-964A-84FC80CCFE33}" type="slidenum">
              <a:t>23</a:t>
            </a:fld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989080"/>
            <a:ext cx="87631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ểm biê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điểm biên của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mọi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ều chứa ít nhất các điểm x, y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,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. Tập hợp mọi điểm biên của D được gọi là biên của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1083600"/>
            <a:ext cx="8762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ân c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số r &gt; 0. Tập S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) = {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(x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r} được gọi là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2042280"/>
            <a:ext cx="8762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ểm tro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điểm trong của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D chứa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76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ập đó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biên của D thuộc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5000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ập mở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biên của D không thuộc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0CF6-0B94-4982-907B-33037B924842}" type="slidenum">
              <a:t>3</a:t>
            </a:fld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11426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2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ột ánh xạ f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được gọi là hàm số 2 biến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068720" y="1676520"/>
                <a:ext cx="30942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76320" y="206892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miền xác đị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D) = {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z = f(x,y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} gọi là miền giá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6840" y="3195360"/>
            <a:ext cx="427284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iền xác đị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2x – 3y 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ln(x + y 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908600" y="3683160"/>
                <a:ext cx="220968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76320" y="48445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n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ột ánh xạ f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được gọi là hàm số n biến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504800" y="5829480"/>
                <a:ext cx="5239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1DF-996D-4911-AD24-06F0168541E3}" type="slidenum">
              <a:t>4</a:t>
            </a:fld>
          </a:p>
        </p:txBody>
      </p:sp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GIỚI HẠN VÀ TÍNH LIÊN TỤC CỦA HÀM S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661400"/>
            <a:ext cx="9067680" cy="20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ới hạn hàm số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f(x,y) xác định tại lân cận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có thể  không xác định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Số thực L được gọi là giới hạn của f khi M(x,y) tiến đến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: d(M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M) – L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744560" y="3975120"/>
                <a:ext cx="4808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,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-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-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28600" y="4971960"/>
                <a:ext cx="21844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717640" y="4986360"/>
                <a:ext cx="33339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426360" y="4927680"/>
                <a:ext cx="23047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eqArr>
                      </m:e>
                      <m:lim>
                        <m:r>
                          <m:t xml:space="preserve">y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61A3-CBB9-48A0-A9AD-EF8ED1FE215A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36600"/>
            <a:ext cx="90676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ái niệm vô hạn cũng được định nghĩa tương tự như đối với hàm số một biế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c định lý về giới hạn của tổng, tích, thương đối với hàm số một biến cũng đúng cho hàm số nhiều biế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3720240"/>
            <a:ext cx="27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562720" y="3551400"/>
                <a:ext cx="3047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219320" y="3492360"/>
                <a:ext cx="35305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73A9-8ED6-4B2E-8414-AEBFF1FA0F18}" type="slidenum">
              <a:t>6</a:t>
            </a:fld>
          </a:p>
        </p:txBody>
      </p:sp>
    </p:spTree>
  </p:cSld>
  <p:transition>
    <p:checker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320" y="1112760"/>
            <a:ext cx="871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ên tục của hà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 được gọi là liên tục tại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nế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073240" y="1735200"/>
                <a:ext cx="44038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2543040"/>
            <a:ext cx="884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(x,y) liên tục trên một tập đóng và bị chặn trên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ồn tại số M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f(x,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đạt giá trị lớn nhất và nhỏ nhất trên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495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ương tự ta có thể định nghĩa giới hạn và sự liên tục của hàm số đối với hàm n biến (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≥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C9F2-8031-4078-8ED4-79AAC38DF8D8}" type="slidenum">
              <a:t>7</a:t>
            </a:fld>
          </a:p>
        </p:txBody>
      </p:sp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219320"/>
            <a:ext cx="8763120" cy="4597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ĐẠO HÀM RIÊ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740240"/>
            <a:ext cx="883908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z = f(x,y) xác định trong miền D,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. Nếu cho y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 hằng số, hàm số một biến f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ó đạo hàm tại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được gọi là đạo hàm riêng của f đối với x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544760" y="3657600"/>
                <a:ext cx="50338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4618080"/>
            <a:ext cx="906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-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Số gia riêng của f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903400" y="5389560"/>
                <a:ext cx="22021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3130-E127-4088-B70D-561407596B17}" type="slidenum">
              <a:t>8</a:t>
            </a:fld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5048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 ta cũng có định nghĩa đạo hàm riêng của f theo biế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830680" y="1620720"/>
                <a:ext cx="209232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y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f</m:t>
                        </m:r>
                      </m:num>
                      <m:den>
                        <m:r>
                          <m:t xml:space="preserve">Δ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0" y="2666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 ta cũng có đạo hàm riêng đối với hàm n biến số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320" y="3733200"/>
            <a:ext cx="86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các đạo hàm riê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08240" y="4309920"/>
                <a:ext cx="3187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05080" y="5021280"/>
                <a:ext cx="9442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CB85-CA31-4022-A48E-7849A78429D1}" type="slidenum">
              <a:t>9</a:t>
            </a:fld>
          </a:p>
        </p:txBody>
      </p:sp>
    </p:spTree>
  </p:cSld>
  <p:transition>
    <p:cover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m</cp:lastModifiedBy>
  <dcterms:modified xsi:type="dcterms:W3CDTF">2009-11-08T13:28:05Z</dcterms:modified>
  <cp:revision>788</cp:revision>
  <dc:subject/>
  <dc:title>Nguyên lý thống kê</dc:title>
</cp:coreProperties>
</file>