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E3DB-CB47-4A41-AB45-E5923874B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B0B9-2E8D-4114-BA87-E11B8A09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21BA-3690-4C24-8E2D-506EB8A5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BA82-9F40-4B8F-954D-2A33A537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F27D-E5BE-4B6B-95F1-562E6FF2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07B1-4AEF-4C22-BFFD-6DCF55E9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3ACA-8FA7-47F9-93D2-2243F4D1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E51D-4244-4026-BA5F-ED26F0EC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B9EE-3BC5-4B1E-BE48-48118652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AE57-5932-4CD9-BE54-732253BC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B94B-1C51-4C3F-A0B8-AA7D50E8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4FEA-AA32-4FA8-A0E2-88042843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4B9E-EB97-44FC-B258-EAA99261476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7F6B-2E5F-4995-BE4C-97A61FEA9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2. HỆ PHƯƠNG TRÌNH TUYẾN TÍ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600200" y="1523880"/>
            <a:ext cx="4724280" cy="685800"/>
            <a:chOff x="1600200" y="1523880"/>
            <a:chExt cx="4724280" cy="685800"/>
          </a:xfrm>
        </p:grpSpPr>
        <p:sp>
          <p:nvSpPr>
            <p:cNvPr id="43" name=""/>
            <p:cNvSpPr/>
            <p:nvPr/>
          </p:nvSpPr>
          <p:spPr>
            <a:xfrm>
              <a:off x="1981080" y="1643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00200" y="15238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209680" y="16984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ác khái niệ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38160" y="1622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905120" y="2286000"/>
            <a:ext cx="4724280" cy="685800"/>
            <a:chOff x="1905120" y="2286000"/>
            <a:chExt cx="4724280" cy="685800"/>
          </a:xfrm>
        </p:grpSpPr>
        <p:sp>
          <p:nvSpPr>
            <p:cNvPr id="48" name=""/>
            <p:cNvSpPr/>
            <p:nvPr/>
          </p:nvSpPr>
          <p:spPr>
            <a:xfrm>
              <a:off x="2286000" y="24051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05120" y="228600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14600" y="246060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PTTT Cr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143080" y="23846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209680" y="3048120"/>
            <a:ext cx="4724280" cy="685800"/>
            <a:chOff x="2209680" y="3048120"/>
            <a:chExt cx="4724280" cy="685800"/>
          </a:xfrm>
        </p:grpSpPr>
        <p:sp>
          <p:nvSpPr>
            <p:cNvPr id="53" name=""/>
            <p:cNvSpPr/>
            <p:nvPr/>
          </p:nvSpPr>
          <p:spPr>
            <a:xfrm>
              <a:off x="2590560" y="3167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09680" y="304812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19160" y="32227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hương pháp Gau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47640" y="31467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590920" y="3809880"/>
            <a:ext cx="4724280" cy="685800"/>
            <a:chOff x="2590920" y="3809880"/>
            <a:chExt cx="4724280" cy="685800"/>
          </a:xfrm>
        </p:grpSpPr>
        <p:sp>
          <p:nvSpPr>
            <p:cNvPr id="58" name=""/>
            <p:cNvSpPr/>
            <p:nvPr/>
          </p:nvSpPr>
          <p:spPr>
            <a:xfrm>
              <a:off x="2971800" y="3929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90920" y="38098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00400" y="39844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PTTT Thuần nhấ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28880" y="3908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971800" y="4495680"/>
            <a:ext cx="4724280" cy="685800"/>
            <a:chOff x="2971800" y="4495680"/>
            <a:chExt cx="4724280" cy="685800"/>
          </a:xfrm>
        </p:grpSpPr>
        <p:sp>
          <p:nvSpPr>
            <p:cNvPr id="63" name=""/>
            <p:cNvSpPr/>
            <p:nvPr/>
          </p:nvSpPr>
          <p:spPr>
            <a:xfrm>
              <a:off x="335268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71800" y="44956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81280" y="46702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ột số ứng dụ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9760" y="45943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D84D-405A-4B6B-8269-EF8359C3B0E2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II.PHƯƠNG PHÁP GA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21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i hệ phương trìn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308240" y="1822320"/>
                <a:ext cx="433044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9A5F-5BBF-4CB0-9EDE-D879D5C380EF}" type="slidenum">
              <a:t>10</a:t>
            </a:fld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21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1. Định nghĩ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800280" y="1778040"/>
                <a:ext cx="5905440" cy="22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914400" y="4597560"/>
                <a:ext cx="379080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0" y="4114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luôn có nghiệm tầm thườ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8D52-35D2-4647-9D9F-F7E6E2F63504}" type="slidenum">
              <a:t>11</a:t>
            </a:fld>
          </a:p>
        </p:txBody>
      </p:sp>
    </p:spTree>
  </p:cSld>
  <p:transition>
    <p:cover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14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2. Phương pháp giả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6761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ường hợp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rankA = n, hệ phương trình chỉ có nghiệm tầm thườ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590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ường hợp 2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rankA = k &lt; n thì hệ phương trình tuyến tính thuần nhất có vô số nghiệm, phụ thuộc n-k tham số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961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87320" y="4429080"/>
                <a:ext cx="5765760" cy="20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8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9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BA01-73B3-4623-81D9-0E44CE8E6CFE}" type="slidenum">
              <a:t>12</a:t>
            </a:fld>
          </a:p>
        </p:txBody>
      </p:sp>
    </p:spTree>
  </p:cSld>
  <p:transition>
    <p:checke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52280" y="1244520"/>
                <a:ext cx="2820960" cy="20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9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39840" y="3657600"/>
                <a:ext cx="468936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e>
                    </m:eqArr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895480" y="1219320"/>
                <a:ext cx="525780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</m:e>
                    </m:eqAr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4087-92D2-4E24-A48C-115264A97CF5}" type="slidenum">
              <a:t>13</a:t>
            </a:fld>
          </a:p>
        </p:txBody>
      </p:sp>
    </p:spTree>
  </p:cSld>
  <p:transition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04920" y="2209680"/>
                <a:ext cx="39621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  <m:r>
                                    <m:t xml:space="preserve">=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38040" y="3511440"/>
                <a:ext cx="37641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0" y="114300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kA = 2, số ẩn là 4 nên hệ phương trình có vô số nghiệm phụ thuộc vào 2 tham số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4993-DE72-456D-9B37-98F1A96702AB}" type="slidenum">
              <a:t>14</a:t>
            </a:fld>
          </a:p>
        </p:txBody>
      </p:sp>
    </p:spTree>
  </p:cSld>
  <p:transition>
    <p:comb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113120"/>
            <a:ext cx="9144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 Hệ nghiệm cơ bả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 sử rankA = k &lt; n. Ta có hệ có vô số nghiệm phụ thuộc n-k tham số. Giả sử n-k tham số đó là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…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28600" y="2593800"/>
          <a:ext cx="8610480" cy="2587320"/>
        </p:xfrm>
        <a:graphic>
          <a:graphicData uri="http://schemas.openxmlformats.org/drawingml/2006/table">
            <a:tbl>
              <a:tblPr/>
              <a:tblGrid>
                <a:gridCol w="1074600"/>
                <a:gridCol w="1076400"/>
                <a:gridCol w="1076400"/>
                <a:gridCol w="1039680"/>
                <a:gridCol w="1114560"/>
                <a:gridCol w="1076400"/>
                <a:gridCol w="1076400"/>
                <a:gridCol w="107604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+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-k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-k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-k,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0" y="5333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này được gọi là hệ nghiệm cơ bản của hệ phương trình tuyến tính thuần nhấ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ABE6-0511-4DD1-9D14-FF4F081D0CF7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115704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p dụng: Sử dụng ví dụ trên ta tìm được hệ nghiệm cơ bản như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19280" y="2179800"/>
          <a:ext cx="7967520" cy="1554120"/>
        </p:xfrm>
        <a:graphic>
          <a:graphicData uri="http://schemas.openxmlformats.org/drawingml/2006/table">
            <a:tbl>
              <a:tblPr/>
              <a:tblGrid>
                <a:gridCol w="2319480"/>
                <a:gridCol w="2447640"/>
                <a:gridCol w="1752840"/>
                <a:gridCol w="144756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8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7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-6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5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4BE3-08F2-408B-9B19-9852A5F8B4B4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1. Mô hình cân bằng thị trườ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690560"/>
            <a:ext cx="9144000" cy="22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Thị trường 1 loại hàng hó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u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-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ầ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≥ 0, P giá sản ph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8098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ô hình cân bằng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 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P = 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419720"/>
            <a:ext cx="9144000" cy="16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sản phẩm trên thị trường có các thông t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u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-1 +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ầ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 -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6B44-41F8-4187-BD2B-B846F545396C}" type="slidenum">
              <a:t>17</a:t>
            </a:fld>
          </a:p>
        </p:txBody>
      </p:sp>
    </p:spTree>
  </p:cSld>
  <p:transition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4300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Thị trường 2 loại hàng hó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348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ô hình cân bằ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467160" y="5105520"/>
                <a:ext cx="1866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38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520560" y="2209680"/>
                <a:ext cx="46069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38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38120" y="3824280"/>
                <a:ext cx="47340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0" y="3276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4B9B-3FFB-454B-8C50-E5FFD796B401}" type="slidenum">
              <a:t>18</a:t>
            </a:fld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ệ phương trình cân bằ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80880" y="1676520"/>
                <a:ext cx="678204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80880" y="2867040"/>
                <a:ext cx="33814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0" y="384480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ị trường có 2 sản phẩm như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49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49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5486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514600" y="4495680"/>
                <a:ext cx="38005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/>
                      </m:mr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562120" y="5562720"/>
                <a:ext cx="376236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/>
                      </m:mr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  <m:e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BC7C-95AB-4695-B78D-5E6CD132ABB0}" type="slidenum">
              <a:t>19</a:t>
            </a:fld>
          </a:p>
        </p:txBody>
      </p:sp>
    </p:spTree>
  </p:cSld>
  <p:transition>
    <p:checker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. CÁC KHÁI NIỆM CƠ BẢ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21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.1. Dạng tổng quát hệ phương trình tuyến tín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752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một hệ phương trình đại số bậc nhất gồm m phương trình n ẩn có dạ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28600" y="2844720"/>
                <a:ext cx="6178680" cy="226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629400" y="2895480"/>
            <a:ext cx="2362320" cy="245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à biế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được gọi là hệ số (của ẩ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được gọi là hệ số tự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8E2A-4768-49C6-B868-01D5FD429786}" type="slidenum">
              <a:t>2</a:t>
            </a:fld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14300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Thị trường n loại hàng hó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19040" y="2209680"/>
                <a:ext cx="54482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33670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ệ phương trình cân bằng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57200" y="4013280"/>
                <a:ext cx="5168880" cy="20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610A-49C2-42CB-B312-B36C4B870EB5}" type="slidenum">
              <a:t>20</a:t>
            </a:fld>
          </a:p>
        </p:txBody>
      </p:sp>
    </p:spTree>
  </p:cSld>
  <p:transition>
    <p:comb dir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ả sử thị trường có 3 sản phẩ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231920" y="1752480"/>
                <a:ext cx="38228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244520" y="3124080"/>
                <a:ext cx="3861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231920" y="4495680"/>
                <a:ext cx="38354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32D5-137B-496F-B521-0F6BEEF1478D}" type="slidenum">
              <a:t>21</a:t>
            </a:fld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2.Mô hình cân đối liên ngành (I/O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717560"/>
            <a:ext cx="9144000" cy="28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ả sử một quốc gia có nhiều ngành sản xuấ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ổng cầu ngàn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- Cầu trung gian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ản phẩm dịch vụ hàng hoá ngành này là yếu tố đầu vào phục vụ ngành khá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- Cầu tiêu dùng và xuất khẩu (cầu cuối cùng)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hục vụ cho hộ gia đình, chính phù và xuất khẩ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BA37-D7AE-4A91-9B88-93D448B51517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143000"/>
            <a:ext cx="914400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tổng cầu của ngành 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ịj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là giá trị sản phẩm hàng hóa, dịch vụ của ngành I mà ngành j làm yếu tố đầu và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giá trị sản phẩm hàng hóa dịch vụ ngành i cho tiêu dùng và xuất khẩ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276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ổng cầu của ngành 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80880" y="3809880"/>
                <a:ext cx="38768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80880" y="4295880"/>
                <a:ext cx="518184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0" y="45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34EA-CC08-45BA-8C7A-0658B267D722}" type="slidenum">
              <a:t>23</a:t>
            </a:fld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009960" y="1190520"/>
                <a:ext cx="5600520" cy="20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923760" y="1752480"/>
                <a:ext cx="1133640" cy="9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52280" y="3857760"/>
                <a:ext cx="5934240" cy="20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0" y="1995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221A-6047-42AD-BB22-64FC55835C34}" type="slidenum">
              <a:t>24</a:t>
            </a:fld>
          </a:p>
        </p:txBody>
      </p:sp>
    </p:spTree>
  </p:cSld>
  <p:transition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52280" y="1219320"/>
                <a:ext cx="361152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648320" y="1895400"/>
                <a:ext cx="22478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&gt;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0" y="3352680"/>
            <a:ext cx="9144000" cy="30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ma trận hệ số kỹ thuật hay ma trận chi phí trực tiế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ệ số chi phí cho nhập lượng hay hệ số kỹ thu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òng i: giá trị sản phẩm ngành i bán cho mỗi ngà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ột j: giá trị sản phẩm ngành j mua mỗi ngành để sử dụ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-A] là ma trận Leonti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6E63-ADFC-417A-880F-54E6DC8C056D}" type="slidenum">
              <a:t>25</a:t>
            </a:fld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52280" y="1219320"/>
                <a:ext cx="361152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648320" y="1895400"/>
                <a:ext cx="22478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&gt;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0" y="3352680"/>
            <a:ext cx="9144000" cy="30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ma trận hệ số kỹ thuật hay ma trận chi phí trực tiế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ệ số chi phí cho nhập lượng hay hệ số kỹ thu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òng i: giá trị sản phẩm ngành i bán cho mỗi ngà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ột j: giá trị sản phẩm ngành j mua mỗi ngành để sử dụ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-A] là ma trận Leonti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C01D-1328-4277-ABB8-6F1431FF329F}" type="slidenum">
              <a:t>26</a:t>
            </a:fld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. CÁC KHÁI NIỆM CƠ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766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Ma trận các hệ số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780000" y="1143000"/>
                <a:ext cx="37638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0" y="3047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Ma trận cột của ẩn và ma trận cột của hệ số tự do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33520" y="3505320"/>
                <a:ext cx="4114800" cy="20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788000" y="3505320"/>
                <a:ext cx="4203720" cy="20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0" y="56379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(1) có thể viết: AX = 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E53E-EA75-4817-8A70-8F97E2997876}" type="slidenum">
              <a:t>3</a:t>
            </a:fld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. CÁC KHÁI NIỆM CƠ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112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 Ma trận bổ sung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97000" y="1625760"/>
                <a:ext cx="4579920" cy="21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E0D5-43D1-4FB2-8C82-9AEC892F9D76}" type="slidenum">
              <a:t>4</a:t>
            </a:fld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. CÁC KHÁI NIỆM CƠ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160640"/>
            <a:ext cx="914400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2. Điều kiện tồn tại nghiệ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(Định lý Kronecker – Capelli)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tuyến tính (1) có nghiệm khi và chỉ khi hạng của ma trận A bằng hạng của ma trận bổ sung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214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ác định tham số a để phương trình có nghiệ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122480" y="3835440"/>
                <a:ext cx="2687400" cy="15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5830-6668-4597-9E78-5228049777B2}" type="slidenum">
              <a:t>5</a:t>
            </a:fld>
          </a:p>
        </p:txBody>
      </p:sp>
    </p:spTree>
  </p:cSld>
  <p:transition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I.HỆ PHƯƠNG TRÌNH CRAME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1588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1. Định nghĩa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Crame là một hệ phương trình tuyến tính n phương trình, n ẩn và định thức của ma trận hệ số khác khô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588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2. Định lý Cram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Crame có nghiệm duy nhất tính bằng công thức X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, tức là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806400" y="3657600"/>
                <a:ext cx="186048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473904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đó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ma trận thu được từ A bằng cách thay cột thứ j bằng cột các phần tử tự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C2AF-B1E8-4ED2-B155-0A0305AB6276}" type="slidenum">
              <a:t>6</a:t>
            </a:fld>
          </a:p>
        </p:txBody>
      </p:sp>
    </p:spTree>
  </p:cSld>
  <p:transition>
    <p:comb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I.HỆ PHƯƠNG TRÌNH CR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220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ải hệ phương trình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163520" y="1746360"/>
                <a:ext cx="43992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/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E986-D9D5-4935-A78D-1BB4EAFD8B98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II.PHƯƠNG PHÁP GA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80" y="1219320"/>
            <a:ext cx="9124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1. Định nghĩa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tuyến tính có số phương trình và số ẩn khác nhau hoặc định thức ma trận các hệ số bằng khô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2. Phương pháp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ử dụng các phép toán sơ biến ma trận bổ sung về dạng ma trận bậc tha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52280" y="3657600"/>
                <a:ext cx="4579920" cy="21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1840-A701-4512-B8B7-973E45F80D70}" type="slidenum">
              <a:t>8</a:t>
            </a:fld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II.PHƯƠNG PHÁP GA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" y="1142280"/>
            <a:ext cx="912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 =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72960" y="1752480"/>
                <a:ext cx="4732560" cy="21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b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b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b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87360" y="4165560"/>
                <a:ext cx="5937120" cy="21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b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/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b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b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7821-968A-4D53-AD8A-29DF1C578A8F}" type="slidenum">
              <a:t>9</a:t>
            </a:fld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3:32:52Z</dcterms:created>
  <dc:creator>Acer</dc:creator>
  <dc:description/>
  <dc:language>en-US</dc:language>
  <cp:lastModifiedBy>Acer</cp:lastModifiedBy>
  <dcterms:modified xsi:type="dcterms:W3CDTF">2009-09-15T05:13:04Z</dcterms:modified>
  <cp:revision>438</cp:revision>
  <dc:subject/>
  <dc:title>Nguyên lý thống kê</dc:title>
</cp:coreProperties>
</file>