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989-2CF3-46B9-920F-A8368A53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61F-BBF6-4EDA-A157-4D3BE0F9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57B-F734-4899-B046-94C0A57E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C52-C26F-41EA-BFD3-EA0F8108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E1B-FF80-46D0-81A8-AF3AE5F3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758-20FC-4D9A-97FA-42F47FE1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1C8-2F27-40F0-B1B4-7E0F37CA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E00-D879-48ED-BC5C-C65C9807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669-BF97-4CB2-887B-853929F6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80E-E546-437B-9BDB-A7A53FCD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4A7-0E33-45F6-8143-13DF22B0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9953-015B-413C-9C45-7B4252E1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8512-0969-411D-8B79-786AF98835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3792-1381-4611-975A-B33770DEF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ĐẠO HÀM HÀM SỐ MỘT BIẾ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6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f(x) xác định trong (a,b)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. Nếu tồn tạ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59120" y="2279520"/>
                <a:ext cx="25732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76320" y="320400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giới hạn đó được gọi là đạo hàm của hàm số f(x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4164840"/>
            <a:ext cx="89913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có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 –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07960" y="5240160"/>
                <a:ext cx="1900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742840" y="541260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 dy/dx, df/d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0C0-D706-47BA-98D4-4CD8A369137C}" type="slidenum">
              <a:t>1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ÁC ĐỊNH LÝ VỀ ĐẠO HÀ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182844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Rol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và f(a) = f(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f’(c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2000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Lagran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76320" y="379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22560" y="4203720"/>
                <a:ext cx="25527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76320" y="50288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Rolle là một trường hợp đặc biệt của định lý Lagrange trong trường hợp f(b) = f(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B31-7DF5-46DF-A995-60106175BCD6}" type="slidenum">
              <a:t>10</a:t>
            </a:fld>
          </a:p>
        </p:txBody>
      </p:sp>
    </p:spTree>
  </p:cSld>
  <p:transition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118728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Cauch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, g cùng liên tục trên [a,b], khả vi trong khoảng (a,b) và g’(x) ≠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1640" y="2666880"/>
                <a:ext cx="2711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6320" y="3701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Lagrange là một trường hợp đặc biệt của định lý Cauchy trong trường hợp g(x) =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24F-1224-469E-9B19-AAA47ED010E1}" type="slidenum">
              <a:t>11</a:t>
            </a:fld>
          </a:p>
        </p:txBody>
      </p:sp>
    </p:spTree>
  </p:cSld>
  <p:transition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10836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Tayl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f khả vi đến cấp (n+1) trong lân cận D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ì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ồn tại c nằm giữa x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028880" y="2540160"/>
                <a:ext cx="744192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\( x rSub { size 8{0} }  \) }  over  {2!} }  \( x - x rSub { size 8{0} }  \)  rSup { size 8{2} } +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}  {} # 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+ {  {f rSup { size 8{ \( n \) } }  \( x rSub { size 8{0} }  \) }  over  {n!} }  \( x - x rSub { size 8{0} }  \)  rSup { size 8{n} } + {  {f rSup { size 8{ \( n+1 \) } }  \( c \) }  over  { \( n+1 \) !} }  \( x - x rSub { size 8{0} }  \)  rSup { size 8{n+1} }  {} 
} } {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85760" y="5029200"/>
                <a:ext cx="41655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76320" y="45100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ố hạng cuối cùng được gọi là phần dư Lag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B93-2B03-43C7-B69A-9F06AA3131C2}" type="slidenum">
              <a:t>12</a:t>
            </a:fld>
          </a:p>
        </p:txBody>
      </p:sp>
    </p:spTree>
  </p:cSld>
  <p:transition>
    <p:blinds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1566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a thức Tay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9800" y="1701720"/>
                <a:ext cx="4089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76320" y="290988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 thì công thức Taylor trở thành công thức Maclau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1520" y="3860640"/>
                <a:ext cx="896616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\( 0 \) }  over  {2!} } x rSup { size 8{2} } +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+ {  {f rSup { size 8{ \( n \) } }  \( 0 \) }  over  {n!} } x rSup { size 8{n} } + {  {f rSup { size 8{ \( n+1 \) } }  \( c \) }  over  { \( n+1 \) !} } x rSup { size 8{n+1} }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15A-BB71-4AF9-9333-BD551C33BBE3}" type="slidenum">
              <a:t>13</a:t>
            </a:fld>
          </a:p>
        </p:txBody>
      </p:sp>
    </p:spTree>
  </p:cSld>
  <p:transition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00" y="1142280"/>
            <a:ext cx="90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Hospital khử dựng vô định khi tìm giới h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1720440"/>
            <a:ext cx="905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, g khả vi trong (a,b), g’(x) ≠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54120" y="2709720"/>
                <a:ext cx="3486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943520" y="2432160"/>
                <a:ext cx="3768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1640" y="344268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tắc L’Hospital vẫn đúng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03360" y="4114800"/>
                <a:ext cx="3600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40280" y="4081320"/>
                <a:ext cx="3548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04800" y="4919760"/>
                <a:ext cx="3662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7040" y="5728680"/>
            <a:ext cx="72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 tắc L’Hospital có thể áp dụng nhiều lầ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591-CDAF-455D-80EC-96D1D00126F6}" type="slidenum">
              <a:t>14</a:t>
            </a:fld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480" y="1675800"/>
            <a:ext cx="63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giới hạn sau (dạng 0/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68280" y="2197080"/>
                <a:ext cx="2395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3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946760" y="2246400"/>
                <a:ext cx="19429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0720" y="3535200"/>
                <a:ext cx="19432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37240" y="3154320"/>
                <a:ext cx="23191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x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6600" y="472356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giới hạn sau (dạ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60280" y="5402160"/>
                <a:ext cx="1816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rPr>
                            <m:lit/>
                            <m:nor/>
                          </m:rPr>
                          <m:t xml:space="preserve">g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73360" y="5349960"/>
                <a:ext cx="14428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84920" y="5230800"/>
                <a:ext cx="13395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7600" y="114228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Dạng 0/0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FAA-474B-4162-9791-907DA10FD58F}" type="slidenum">
              <a:t>15</a:t>
            </a:fld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11426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Dạng 0.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uyển chúng về dạng  0/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3360" y="2082960"/>
                <a:ext cx="1795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76440" y="2082960"/>
                <a:ext cx="3149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0280" y="1898640"/>
                <a:ext cx="28494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lim>
                    </m:limLow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86840" y="3045240"/>
            <a:ext cx="53254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Dạng vô định: 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xét [f(x)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.ln 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x) &gt;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40" y="443304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63480" y="4857840"/>
                <a:ext cx="1413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344760" y="4654440"/>
                <a:ext cx="13161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00840" y="4648320"/>
                <a:ext cx="21715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D9F-8AA8-42FF-87CA-62834B642D08}" type="slidenum">
              <a:t>16</a:t>
            </a:fld>
          </a:p>
        </p:txBody>
      </p:sp>
    </p:spTree>
  </p:cSld>
  <p:transition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114192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 được gọi là đạt cực đại (cực tiểu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ồn tại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26952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ều biến thiê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f khả vi trong (a,b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ếu f’(x) &g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tă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ếu f’(x) &l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giả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C1A-92A4-44A2-BF04-E963CC3C3552}" type="slidenum">
              <a:t>17</a:t>
            </a:fld>
          </a:p>
        </p:txBody>
      </p:sp>
    </p:spTree>
  </p:cSld>
  <p:transition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081440"/>
            <a:ext cx="883908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Ferma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đạt cực trị tại điểm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có đạo hàm tại điểm đó thì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2891520"/>
            <a:ext cx="88390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’(0) = 0 nhưng tại x = 0 hàm số không đạt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y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ạt cực tiểu tại x = 0 nhưng f’(0) không tồn t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920-6BD0-41E5-BAA7-1196FE3F4AF6}" type="slidenum">
              <a:t>18</a:t>
            </a:fld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212480"/>
            <a:ext cx="883908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một trong các điều kiện sau thì được gọi chung là điểm tới hạn của 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Không tồn tại f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f’(x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điều kiện sau f’(x) = 0 được gọi là điểm dừng của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2CE-392F-4259-9EFC-78D4BA060D80}" type="slidenum">
              <a:t>19</a:t>
            </a:fld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40" y="134064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phả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0" y="2407680"/>
            <a:ext cx="33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trá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830760" y="1136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830760" y="2252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6320" y="3226680"/>
            <a:ext cx="883908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) có đạo hàm trên khoảng (a,b) nếu nó có đạo hàm tại mọi điểm trong khoảng đ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có đạo hàm trên đoạn [a,b] nếu nó có đạo hàm tại mọi điểm trong khoảng (a,b), có đạo hàm phải tại a và đạo hàm trái tại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760" y="5804640"/>
            <a:ext cx="65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 = 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030-374C-41BF-A3B6-24C337FA4B7B}" type="slidenum">
              <a:t>2</a:t>
            </a:fld>
          </a:p>
        </p:txBody>
      </p:sp>
    </p:spTree>
  </p:cSld>
  <p:transition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927360"/>
            <a:ext cx="9067680" cy="43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 khả vi trong (a,b) chứa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dương sang âm thì f(x) đạt cực đại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âm sang dương thì f(x) đạt cực tiểu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không đổi dấu thì f(x) không đạt cực trị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00B-337C-4A6D-8E6C-8E044FDF501F}" type="slidenum">
              <a:t>20</a:t>
            </a:fld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1094040"/>
            <a:ext cx="883908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(x) có đạo hàm cấp 2 liên tục ở lân cận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f’(x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gt; 0 thì f(x) đạt cực tiể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0 thì f(x) đạt cực đ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3346560"/>
            <a:ext cx="8839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á trị lớn nhất bé nhất của hàm số trên một đo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ính giá của f tại các điểm tới hạn và tại điểm hai đầu mú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iá trị lớn nhất (nhỏ nhất) trong các giá trị được tính trên là giá trị lớn nhất (nhỏ nhất cần tì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1F9-5C8F-40A2-B973-2A49F6012F0A}" type="slidenum">
              <a:t>21</a:t>
            </a:fld>
          </a:p>
        </p:txBody>
      </p:sp>
    </p:spTree>
  </p:cSld>
  <p:transition>
    <p:cover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1154520"/>
            <a:ext cx="876276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ìm giá trị lớn nhất và bé nhất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1 trên đoạn [-1/2, 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896-BBF4-48C1-9A2A-1FC9AF72AB5D}" type="slidenum">
              <a:t>22</a:t>
            </a:fld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ến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65520" y="1262160"/>
          <a:ext cx="5540400" cy="5138640"/>
        </p:xfrm>
        <a:graphic>
          <a:graphicData uri="http://schemas.openxmlformats.org/drawingml/2006/table">
            <a:tbl>
              <a:tblPr/>
              <a:tblGrid>
                <a:gridCol w="1066680"/>
                <a:gridCol w="244152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lượ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ầ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á c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ợi nhuậ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 bả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o độ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ịnh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ến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507-9D1A-4043-9448-9AA77BF56273}" type="slidenum">
              <a:t>23</a:t>
            </a:fld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78280"/>
            <a:ext cx="9144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số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ản xuấ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 = f(K,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C = f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- 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081760" y="3967200"/>
          <a:ext cx="3985920" cy="2281320"/>
        </p:xfrm>
        <a:graphic>
          <a:graphicData uri="http://schemas.openxmlformats.org/drawingml/2006/table">
            <a:tbl>
              <a:tblPr/>
              <a:tblGrid>
                <a:gridCol w="2263680"/>
                <a:gridCol w="17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ê mặt bằng, điện nướ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00đ/ngà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 v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ịt bò, h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ân viê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0" y="40212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quán bún bình dân, hãy tính mỗi ngày bán bao nhiêu tô thì có lời với giá bán 5.000đ/tô và chi phí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DE8-E323-4DC4-88D7-FED142F3C1AA}" type="slidenum">
              <a:t>24</a:t>
            </a:fld>
          </a:p>
        </p:txBody>
      </p:sp>
    </p:spTree>
  </p:cSld>
  <p:transition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Ý nghĩa đạo hàm trong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6761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ản lượng biên MQ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quantit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o lường sự thay đổi của sản lượng khi tăng lao động hay vốn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047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ìm sản lượng biên của một doanh nghiệp và cho nhận xét khi L=100 cho bởi hàm sản xuất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917880" y="4114800"/>
                <a:ext cx="1308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1CD-1E8C-41C7-99D6-11B8ED6B65EE}" type="slidenum">
              <a:t>25</a:t>
            </a:fld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 phí biên M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Cost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C là đại lượng đo lường sự thay đổi của chi phí khi sản lượng tăng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7672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C và MC là bao nhiêu khi Q = 50 và cho nhận x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 = 0,0001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0,02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Q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ADE-CD40-4099-BC93-F659BE752A1B}" type="slidenum">
              <a:t>26</a:t>
            </a:fld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3000"/>
            <a:ext cx="91440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anh thu biên MR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Revenue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thị trường quyết định, giá do doanh nghiệp quyết định thì MR là đại lượng đo lường sự thay đổi của doanh thu khi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doanh nghiệp quyết định, giá do thị trường quyết định thì MR là đại lượng đo lường sự thay đổi của doanh thu khi giá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952880"/>
            <a:ext cx="9144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hàm cầu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= 1.000 – 14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ìm MR khi p = 40 và p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042-60F9-4D4B-8A53-9CFA95E622D0}" type="slidenum">
              <a:t>27</a:t>
            </a:fld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ợi nhuận biên MP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Profit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Q – (FC + VC(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ợi nhuận biên là đại lượng đo lường sự thay đổi của lợi nhuận khi giá hay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3F6-EF85-4DC0-B071-0A4518ACD2B7}" type="slidenum">
              <a:t>28</a:t>
            </a:fld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143000"/>
            <a:ext cx="91440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ối đa hóa lợi nhu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độc quyề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x –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55880" y="3886200"/>
                <a:ext cx="45972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d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DFC-704A-49C2-8991-696D89A4217D}" type="slidenum">
              <a:t>29</a:t>
            </a:fld>
          </a:p>
        </p:txBody>
      </p:sp>
    </p:spTree>
  </p:cSld>
  <p:transition>
    <p:comb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115020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tổng thương tích của hai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các hàm số u, v có đạo hàm tại x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+ v cũng có đạo hàm tại x và (u + v)’ = u’ + v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v cũng có đạo hàm tại x và (u.v)’ = u’v + v’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40" y="3442680"/>
            <a:ext cx="62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v cũng có đạo hàm tại x\V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521400" y="3193920"/>
                <a:ext cx="2367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76320" y="4267080"/>
            <a:ext cx="899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hợ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u = u(x) có đạo hàm theo x, hàm y = f(u) có đạo hàm tương ứng u = u(x) thì hàm số hợp f(u) có đạo hàm theo x và y’(x) = y’(u).u’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E03-6484-440D-9E69-253E762BE90A}" type="slidenum">
              <a:t>3</a:t>
            </a:fld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143000"/>
            <a:ext cx="9144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công ty độc quyền, phòng kinh doanh cung cấp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phí: FC =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phí: VC = 1/8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-7/8 P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ãy tìm sản lượng để doanh nghiệp đạt lợi nhuận tốt đ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FAA-5FC0-4A5D-89D0-A9159BB0BB1D}" type="slidenum">
              <a:t>30</a:t>
            </a:fld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61280" y="53632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140480"/>
            <a:ext cx="90676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ngượ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ại x, f’(x) ≠ 0 và có hàm số ngược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thì hàm số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có đạo hàm tại y = f(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76320" y="347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009880" y="3035160"/>
                <a:ext cx="4029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6680" y="412848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arc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40F-D197-4984-9A1B-BF2DC9047308}" type="slidenum">
              <a:t>4</a:t>
            </a:fld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3720" y="10656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Đạo hàm các hàm số sơ cấp cơ bả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1360" y="1454760"/>
            <a:ext cx="198252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’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483080" y="1301760"/>
                <a:ext cx="2311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84600" y="2127240"/>
                <a:ext cx="1384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53000" y="3635640"/>
            <a:ext cx="238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x)’ = co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sx)’ = -s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7840" y="4741920"/>
                <a:ext cx="216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90440" y="5657760"/>
                <a:ext cx="2722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599000" y="3030480"/>
                <a:ext cx="2951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27720" y="4021200"/>
                <a:ext cx="33145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72000" y="4979880"/>
                <a:ext cx="2506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40320" y="5784840"/>
                <a:ext cx="3238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84F-C012-47E1-8801-46EF0165D3E9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1140480"/>
            <a:ext cx="899136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ấp ca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hì y’ = f’(x) gọi là đạo hàm cấp 1. Đạo hàm, nếu có, của đạo hàm cấp 1 gọi là đạo hàm cấp 2. Ký hiệu: y’’(x), f’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27480" y="3124080"/>
                <a:ext cx="1523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6320" y="4311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đạo hàm của đạo hàm cấp (n-1) là đạo hàm cấp n. Ký hiệu: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,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29000" y="5264280"/>
                <a:ext cx="1498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D3C-723F-4855-BF9B-22A7A6617F38}" type="slidenum">
              <a:t>6</a:t>
            </a:fld>
          </a:p>
        </p:txBody>
      </p:sp>
    </p:spTree>
  </p:cSld>
  <p:transition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747800"/>
            <a:ext cx="881676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ông thức Leibn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hàm số u, v có đạo hàm liên tiếp đến n. Khi đó ta c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+ v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17440" y="3903840"/>
                <a:ext cx="35816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856760" y="4053600"/>
            <a:ext cx="39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,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7360" y="11566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x &gt; 0), y = k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ìm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623-1311-4C73-8216-EEABFAF07478}" type="slidenum">
              <a:t>7</a:t>
            </a:fld>
          </a:p>
        </p:txBody>
      </p:sp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VI P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75068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khả vi, ta ký hiệu dy = y’dx (df = f’dx) được gọi là vi phân cấp 1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0" y="3065040"/>
            <a:ext cx="546732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 phân của tổng, tích, thư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 + v) = du + 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.v) = vdu + u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90440" y="4732200"/>
                <a:ext cx="266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DC0-6E03-44F2-9829-99B86BEF5C31}" type="slidenum">
              <a:t>8</a:t>
            </a:fld>
          </a:p>
        </p:txBody>
      </p:sp>
    </p:spTree>
  </p:cSld>
  <p:transition>
    <p:comb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114264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và f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ả vi, ta ký hiệu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) được gọi là vi phân cấp n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09B-1EB4-4DDD-B54A-D0C9D38D1F83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10-11T04:34:30Z</dcterms:modified>
  <cp:revision>712</cp:revision>
  <dc:subject/>
  <dc:title>Nguyên lý thống kê</dc:title>
</cp:coreProperties>
</file>