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BF20-E5CA-41DC-B4F2-BFFF2D26D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4D9D-3BF5-4F64-A0B5-1BA537FD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E485-6EC9-4000-935A-BF11526A4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0E74-1091-46C5-8413-DA2CB368D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F29F-E211-431E-955D-951FE486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76FE-7289-46B8-A1C3-A8090A33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6857-A01A-4C4D-B3CF-A52BF0ED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013E-32F9-4AAE-8FEC-E28644EE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EBAC-EDD2-4BF7-B1E6-C2F3B7E8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A734-CAC4-4CC1-8E5B-8645AF12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DC29-C036-4348-9395-02F08CB6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226F-2C4A-4276-B5BD-C2ABE90E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E91C-774D-42D3-8A3D-5B0920BE99F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B5B4-0C59-494C-A52D-7BCBCB0F5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1. MA TRẬN -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057400" y="1523880"/>
            <a:ext cx="4724280" cy="685800"/>
            <a:chOff x="2057400" y="1523880"/>
            <a:chExt cx="4724280" cy="685800"/>
          </a:xfrm>
        </p:grpSpPr>
        <p:sp>
          <p:nvSpPr>
            <p:cNvPr id="43" name=""/>
            <p:cNvSpPr/>
            <p:nvPr/>
          </p:nvSpPr>
          <p:spPr>
            <a:xfrm>
              <a:off x="2438280" y="16430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57400" y="152388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666880" y="16984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a trậ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295360" y="1622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2362320" y="2286000"/>
            <a:ext cx="4724280" cy="685800"/>
            <a:chOff x="2362320" y="2286000"/>
            <a:chExt cx="4724280" cy="685800"/>
          </a:xfrm>
        </p:grpSpPr>
        <p:sp>
          <p:nvSpPr>
            <p:cNvPr id="48" name=""/>
            <p:cNvSpPr/>
            <p:nvPr/>
          </p:nvSpPr>
          <p:spPr>
            <a:xfrm>
              <a:off x="2743200" y="24051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362320" y="228600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71800" y="246060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Định thứ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600280" y="23846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666880" y="3048120"/>
            <a:ext cx="4724280" cy="685800"/>
            <a:chOff x="2666880" y="3048120"/>
            <a:chExt cx="4724280" cy="685800"/>
          </a:xfrm>
        </p:grpSpPr>
        <p:sp>
          <p:nvSpPr>
            <p:cNvPr id="53" name=""/>
            <p:cNvSpPr/>
            <p:nvPr/>
          </p:nvSpPr>
          <p:spPr>
            <a:xfrm>
              <a:off x="3047760" y="3167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666880" y="304812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322272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a trận nghịc đ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904840" y="31467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895480" y="3809880"/>
            <a:ext cx="4724280" cy="685800"/>
            <a:chOff x="2895480" y="3809880"/>
            <a:chExt cx="4724280" cy="685800"/>
          </a:xfrm>
        </p:grpSpPr>
        <p:sp>
          <p:nvSpPr>
            <p:cNvPr id="58" name=""/>
            <p:cNvSpPr/>
            <p:nvPr/>
          </p:nvSpPr>
          <p:spPr>
            <a:xfrm>
              <a:off x="3276360" y="39290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95480" y="380988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04960" y="39844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Hạng của ma trậ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133440" y="3908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88B2-37D6-4721-ADC6-5E7E68BF26CE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6600" y="1142280"/>
            <a:ext cx="51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2.3. Phép nhân hai ma trậ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646280"/>
            <a:ext cx="8763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 Định nghĩa :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A=[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p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; B=[b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k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p x 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=&gt; C=[c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63600" y="2305080"/>
                <a:ext cx="588492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1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2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j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87360" y="4110120"/>
                <a:ext cx="4489560" cy="15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52280" y="335268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ính tích 2 ma trận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571E-D673-4E41-9A13-9AB7E39E52B6}" type="slidenum">
              <a:t>10</a:t>
            </a:fld>
          </a:p>
        </p:txBody>
      </p:sp>
    </p:spTree>
  </p:cSld>
  <p:transition>
    <p:zoom dir="ou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1176480"/>
            <a:ext cx="8610480" cy="39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Một số tính chấ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.B).C = A.(B.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(B+C) = AB + 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+C)A = BA + 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(BC) = (kB)C = B(k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ép nhân nói chung không có tính giao ho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=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 x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&gt; I.A = A.I =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9746-757B-45B7-AD19-BCEB623B1A20}" type="slidenum">
              <a:t>11</a:t>
            </a:fld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3. VÍ D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17218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 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lượng hàng bán trong hai thá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80880" y="2438280"/>
          <a:ext cx="3713400" cy="1552680"/>
        </p:xfrm>
        <a:graphic>
          <a:graphicData uri="http://schemas.openxmlformats.org/drawingml/2006/table">
            <a:tbl>
              <a:tblPr/>
              <a:tblGrid>
                <a:gridCol w="1549440"/>
                <a:gridCol w="581040"/>
                <a:gridCol w="420840"/>
                <a:gridCol w="581040"/>
                <a:gridCol w="581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áng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5049720" y="2438280"/>
          <a:ext cx="3713040" cy="1552680"/>
        </p:xfrm>
        <a:graphic>
          <a:graphicData uri="http://schemas.openxmlformats.org/drawingml/2006/table">
            <a:tbl>
              <a:tblPr/>
              <a:tblGrid>
                <a:gridCol w="1549440"/>
                <a:gridCol w="581040"/>
                <a:gridCol w="420480"/>
                <a:gridCol w="581040"/>
                <a:gridCol w="581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áng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D399-19ED-46D0-A611-4813676B6D00}" type="slidenum">
              <a:t>12</a:t>
            </a:fld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118692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 2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ãy tính nhu cầu vật tư cho từng phân xưởng theo kế hoạch sản xuất cho bởi 2 bảng số liệu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04920" y="2289240"/>
          <a:ext cx="3047760" cy="2587680"/>
        </p:xfrm>
        <a:graphic>
          <a:graphicData uri="http://schemas.openxmlformats.org/drawingml/2006/table">
            <a:tbl>
              <a:tblPr/>
              <a:tblGrid>
                <a:gridCol w="1230120"/>
                <a:gridCol w="598680"/>
                <a:gridCol w="609480"/>
                <a:gridCol w="60948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â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ưở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ản phẩ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X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X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X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733920" y="2286000"/>
          <a:ext cx="5181480" cy="2587680"/>
        </p:xfrm>
        <a:graphic>
          <a:graphicData uri="http://schemas.openxmlformats.org/drawingml/2006/table">
            <a:tbl>
              <a:tblPr/>
              <a:tblGrid>
                <a:gridCol w="1076400"/>
                <a:gridCol w="817560"/>
                <a:gridCol w="817560"/>
                <a:gridCol w="817560"/>
                <a:gridCol w="817560"/>
                <a:gridCol w="83484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ả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ẩ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ật liệ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2DCF-404F-4B31-8658-9C048FAC64E3}" type="slidenum">
              <a:t>13</a:t>
            </a:fld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1. CÁC ĐỊNH NGHĨ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2360" y="2832840"/>
            <a:ext cx="44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là ma trận vuông cấp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1880" y="1721160"/>
            <a:ext cx="48337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Bef>
                <a:spcPts val="700"/>
              </a:spcBef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là ma trận vuông cấp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= 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thì det(A)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41440" y="3424320"/>
                <a:ext cx="235404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235800" y="4511520"/>
            <a:ext cx="4252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ì det(A) =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E5B4-B0CD-42DA-A8FB-24B70C147EF9}" type="slidenum">
              <a:t>14</a:t>
            </a:fld>
          </a:p>
        </p:txBody>
      </p:sp>
    </p:spTree>
  </p:cSld>
  <p:transition>
    <p:zoom dir="ou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33520" y="1676520"/>
                <a:ext cx="3890880" cy="20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52280" y="3886200"/>
            <a:ext cx="8763120" cy="15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à ma trận con cấp n-1 nhận được từ A bằng cách xoá hàng i cột j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-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i+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là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hần bù đại s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ủa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11574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là ma trận vuông cấp 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69E6-EAAC-4F84-93E2-5F42C8F36666}" type="slidenum">
              <a:t>15</a:t>
            </a:fld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3360" y="3421800"/>
            <a:ext cx="754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ử dụng định nghĩa hãy tính định thứ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68280" y="4038480"/>
                <a:ext cx="2527200" cy="15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279720" y="1143360"/>
            <a:ext cx="5860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ịnh thức cấp n của A là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(A) =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…+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85840" y="2166840"/>
                <a:ext cx="603864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C8A1-DF3D-4A94-A34E-A69015A72178}" type="slidenum">
              <a:t>16</a:t>
            </a:fld>
          </a:p>
        </p:txBody>
      </p:sp>
    </p:spTree>
  </p:cSld>
  <p:transition>
    <p:cover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2. TÍNH CHẤT CỦA ĐỊNH THỨC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9480" y="1766160"/>
            <a:ext cx="381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1: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2280" y="236052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ệ quả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ột tính chất đã đúng khi phát biểu về hàng của một định thức thì nó vẫn còn đúng khi trong phát biểu ta thay hàng bằng cộ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7080" y="3809880"/>
            <a:ext cx="878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2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ổi chỗ hai hàng (hay hai cột) của một định thức ta được một định thức mới bằng định thức cũ đổi dấ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3CCA-675A-48D7-8932-67E35BEF26D7}" type="slidenum">
              <a:t>17</a:t>
            </a:fld>
          </a:p>
        </p:txBody>
      </p:sp>
    </p:spTree>
  </p:cSld>
  <p:transition>
    <p:checker dir="horz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115704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3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ột định thức có hai hàng (hay hai cột) như nhau thì bằng khô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205704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4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định thức có một hàng (hay một cột) toàn là số không thì bằng khô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297144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5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i nhân các phần tử của một hàng (hay một cột) với cùng một số k thì được một định thức mới bằng định thức cũ nhân với 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434160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ệ quả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i các phần tử của một hàng (hay một cột) có một thừa số chung, ta có thể đưa thừa số chung đó ra ngoài định thứ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C0E9-4109-4194-BDBA-52FAD5DA1D37}" type="slidenum">
              <a:t>18</a:t>
            </a:fld>
          </a:p>
        </p:txBody>
      </p:sp>
    </p:spTree>
  </p:cSld>
  <p:transition>
    <p:zoom dir="ou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2101320"/>
            <a:ext cx="8839440" cy="11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7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òng thứ i nào đó có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a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a”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ì det(A) = det(A’) + det(A”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51000" y="3352680"/>
                <a:ext cx="3992400" cy="304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,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eqAr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sSub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,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eqArr>
                            </m:e>
                            <m:e>
                              <m:eqAr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sSub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,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eqArr>
                            </m:e>
                            <m:e>
                              <m:eqAr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eqArr>
                            </m:e>
                            <m:e>
                              <m:eqAr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sSub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n</m:t>
                                      </m:r>
                                    </m:sub>
                                    <m:sup>
                                      <m:r>
                                        <m:t xml:space="preserve">,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eqAr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389480" y="3352680"/>
                <a:ext cx="3992400" cy="30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} } = left [ matrix {
a rSub { size 8{</m:t>
                        </m:r>
                        <m: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} }  {} # a rSub { size 8{</m:t>
                        </m:r>
                        <m: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} }  {} #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{} # a rSub { size 8{1n} }  {} ##
a rSub { size 8{</m:t>
                        </m:r>
                        <m: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} }  {} # a rSub { size 8{</m:t>
                        </m:r>
                        <m: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} }  {} #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{} # a rSub { size 8{2n} }  {} ##
alignl { stack {
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{} # 
a rSub { size 8{i1} }  rSup { size 8{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 {} # 
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{} 
} }  {} # alignl { stack {
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{} # 
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{} # 
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{} 
} }  {} # alignl { stack {
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{} # 
a rSub { size 8{ ital </m:t>
                            </m:r>
                            <m:r>
                              <m:t xml:space="preserve">∈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} }  rSup { size 8{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184320" y="1186920"/>
            <a:ext cx="880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6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định thức có hai hàng (hay hai cột) tỷ lệ thì bằng khô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CB63-46E3-455D-B90C-F153B15A06EF}" type="slidenum">
              <a:t>19</a:t>
            </a:fld>
          </a:p>
        </p:txBody>
      </p:sp>
    </p:spTree>
  </p:cSld>
  <p:transition>
    <p:cover dir="l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121932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1. CÁC ĐỊNH NGHĨ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175248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1.1. Định nghĩa ma trận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bảng số chữ nhật có m hàng và n cột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gọi là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ma trận cấp m x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04920" y="2825640"/>
                <a:ext cx="4029120" cy="205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228600" y="5073480"/>
            <a:ext cx="86868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là phần tử của ma trận A ở hàng i cột j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= [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= (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50F5-625E-49DD-A698-1B5B77B6A013}" type="slidenum">
              <a:t>2</a:t>
            </a:fld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121752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8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định thức có một hàng là tổ hợp tuyến tính của các hàng khác thì định thức ấy bằng khô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259056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9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i ta công bội k của một hàng vào một hàng khác thì được một định thức mới bằng định thức c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17520" y="4038480"/>
                <a:ext cx="273060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5DF5-BD83-49DD-B8BD-A8E22EE9AE5E}" type="slidenum">
              <a:t>20</a:t>
            </a:fld>
          </a:p>
        </p:txBody>
      </p:sp>
    </p:spTree>
  </p:cSld>
  <p:transition>
    <p:zoom dir="ou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109656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10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ác định thức của ma trận tam giá bằng tích các phần tử ché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41440" y="2065320"/>
                <a:ext cx="5097240" cy="20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33520" y="4267080"/>
                <a:ext cx="5214960" cy="205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B50C-5CB7-49B4-9CE4-0C210D963C2A}" type="slidenum">
              <a:t>21</a:t>
            </a:fld>
          </a:p>
        </p:txBody>
      </p:sp>
    </p:spTree>
  </p:cSld>
  <p:transition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3. CÁC PHƯƠNG PHÁP TÍNH ĐỊNH THỨC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6240" y="1766160"/>
            <a:ext cx="607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hương pháp 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ùng định nghĩ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1280" y="2375640"/>
            <a:ext cx="801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hương pháp 2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ử dụng các biến đổi sơ cấ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06200" y="3200400"/>
          <a:ext cx="8885520" cy="2286000"/>
        </p:xfrm>
        <a:graphic>
          <a:graphicData uri="http://schemas.openxmlformats.org/drawingml/2006/table">
            <a:tbl>
              <a:tblPr/>
              <a:tblGrid>
                <a:gridCol w="4613400"/>
                <a:gridCol w="3208320"/>
                <a:gridCol w="1063800"/>
              </a:tblGrid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ến đổi sơ cấ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ác dụ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ý 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hân một hàng với một số k≠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Định thức nhân với 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Đổi chỗ hai hà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Định thức đổi dấ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ộng k lần hàng r vào hàng 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Định thức không đổ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B856-C6BB-4243-A93B-E8820651B5CA}" type="slidenum">
              <a:t>22</a:t>
            </a:fld>
          </a:p>
        </p:txBody>
      </p:sp>
    </p:spTree>
  </p:cSld>
  <p:transition>
    <p:zoom dir="ou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04920" y="1846440"/>
                <a:ext cx="3281400" cy="20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155520" y="126468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ính định thức bằng hai phương phá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5DFB-8600-4726-A17E-D753355AA2CB}" type="slidenum">
              <a:t>23</a:t>
            </a:fld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3 MA TRẬN NGHỊCH Đ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2280" y="1186920"/>
            <a:ext cx="889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1. Ma trận không suy biế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a gọi ma trận vuông A cấp n là một ma trận không suy biến nếu det(A) ≠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2280" y="2200680"/>
            <a:ext cx="8839440" cy="28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2. Ma trận nghịch đả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ma trận vuông A cấp n, nếu tồn tại ma trận vuông B cấp n thoả mãn: AB = BA = I thì B được gọi là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 trận nghịch đả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ủa 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A có ma trận nghịch đảo thì A gọi là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 trận khả nghị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ý hiệu: B =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ghĩa là ta có A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5103360"/>
            <a:ext cx="87631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3. Sự duy nhất của ma trận nghịch đ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A khả nghịch thì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à duy nhấ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C0F0-CD28-49EC-8F86-D5E30336C744}" type="slidenum">
              <a:t>24</a:t>
            </a:fld>
          </a:p>
        </p:txBody>
      </p:sp>
    </p:spTree>
  </p:cSld>
  <p:transition>
    <p:comb dir="horz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3 MA TRẬN NGHỊCH Đ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8520" y="1218600"/>
            <a:ext cx="878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4. Sự tồn tại và biểu thức ma trận nghịch đả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2280" y="17521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det(A)≠0 thì ma trận A có nghịch đảo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ược tính bởi công thức sau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04920" y="2901960"/>
                <a:ext cx="5975280" cy="20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228600" y="5119920"/>
            <a:ext cx="87631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ng đó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à phần bù đại số của phần tử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ma trận chuyển vị của ma trận phần bù đại s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9900-0E9E-42BE-9810-4F98590AD4B5}" type="slidenum">
              <a:t>25</a:t>
            </a:fld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3 MA TRẬN NGHỊCH Đ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8400" y="1142280"/>
            <a:ext cx="744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5. Phương pháp tìm ma trận nghịch đảo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8760" y="1675800"/>
            <a:ext cx="64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5.1. Phương pháp dùng định thức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47760" y="2216160"/>
                <a:ext cx="5976720" cy="20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68280" y="4800600"/>
                <a:ext cx="2679840" cy="15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154080" y="4266360"/>
            <a:ext cx="70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ma trận nghịch đảo của ma trậ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0606-F320-4B69-AF38-43E139836559}" type="slidenum">
              <a:t>26</a:t>
            </a:fld>
          </a:p>
        </p:txBody>
      </p:sp>
    </p:spTree>
  </p:cSld>
  <p:transition>
    <p:comb dir="ver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3 MA TRẬN NGHỊCH Đ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1114200"/>
            <a:ext cx="8839440" cy="44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5.1. Phương pháp dùng phép biến đổi sơ cấp của Gauss - Jord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hân một dòng nào đó của ma trận với một số thực khác khô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ộng vào một dòng của ma trận một dòng khác đã nhân với một số thự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Đổi chỗ hai dòng của ma trận cho nh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ể tìm ma trận nghịch đảo dùng các phép biến đổi sơ cấp sau cho: [A│I] = [I│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ECF3-95F2-4A6B-B022-E0C0C4BA6F82}" type="slidenum">
              <a:t>27</a:t>
            </a:fld>
          </a:p>
        </p:txBody>
      </p:sp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3 MA TRẬN NGHỊCH Đ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4080" y="1188360"/>
            <a:ext cx="510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ma trận nghịch đả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76200" y="1747800"/>
                <a:ext cx="2214720" cy="15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EC4D-0FD8-4B19-8AEA-6FCF3013CC0A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2280" y="1156320"/>
            <a:ext cx="8763120" cy="32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1. Ma trận con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 trận A cấp m x n, gọi p là một số nguyên dương, p&lt;min(m,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 trận vuông cấp p suy ra từ A bằng cách bỏ đi m-p hàng và n-p cột gọi là ma trận con cấp p của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ịnh thức của ma trận con đó gọi là định thức con cấp p của 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4440" y="4433040"/>
            <a:ext cx="484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ác ma trận co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22200" y="4952880"/>
                <a:ext cx="3487680" cy="15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A70C-C96C-4496-AFFA-086C086A573D}" type="slidenum">
              <a:t>29</a:t>
            </a:fld>
          </a:p>
        </p:txBody>
      </p:sp>
    </p:spTree>
  </p:cSld>
  <p:transition>
    <p:checker dir="horz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1.2. Ma trận vuô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16441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Ma trận vuông: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Khi m = n , gọi là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ma trận vuông cấp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20560" y="2595600"/>
                <a:ext cx="3899160" cy="20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152280" y="4692960"/>
            <a:ext cx="876312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ược gọi là các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hần tử ché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ường thẳng xuyên qua các phần tử chéo gọi là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đường chéo chín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4BEF-51FF-4A1B-B40E-C2491B7A43FF}" type="slidenum">
              <a:t>3</a:t>
            </a:fld>
          </a:p>
        </p:txBody>
      </p:sp>
    </p:spTree>
  </p:cSld>
  <p:transition>
    <p:checke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5880" y="1142280"/>
            <a:ext cx="407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2. Hạng của ma trậ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161424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ạng của ma trận A là cấp cao nhất của định thức con khác không của 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2586240"/>
            <a:ext cx="876312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ếu r là hạng của ma trận nế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ng A tồn tại một định con cấp r khác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ọi định thức con cấp lớn hơn r trong ma trận A đều bằng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ý hiệu: rankA =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31120" y="5409360"/>
            <a:ext cx="32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hạng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751200" y="4952880"/>
                <a:ext cx="3487680" cy="15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B5BA-1710-4003-AD32-10338D15D903}" type="slidenum">
              <a:t>30</a:t>
            </a:fld>
          </a:p>
        </p:txBody>
      </p:sp>
    </p:spTree>
  </p:cSld>
  <p:transition>
    <p:checker dir="ver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6240" y="1156680"/>
            <a:ext cx="413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3. Ma trận bậc thang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2280" y="1670400"/>
            <a:ext cx="8763120" cy="34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3.1. Định nghĩ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dòng của ma trận được gọi là dòng 0 nếu nó chỉ gồm những phần tử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gược lại, nếu một dòng của ma trận có ít nhất một phần tử khác 0 thì được gọi là dòng khác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ần tử khác 0 đầu tiên của một dòng được gọi là phần tử chính của dòng đ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8235-1DCC-4FA8-9DC2-4294586B0A5E}" type="slidenum">
              <a:t>31</a:t>
            </a:fld>
          </a:p>
        </p:txBody>
      </p:sp>
    </p:spTree>
  </p:cSld>
  <p:transition>
    <p:comb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2280" y="1215360"/>
            <a:ext cx="8763120" cy="33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 trận A được gọi là ma trận bậc thang khi thoả các điều kiện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không có dòng 0 hoặc dòng 0 luôn ở dưới các dòng khác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A có ít nhất 2 dòng khác 0 thì đối với 2 dòng khác 0 tuỳ ý của A, phần tử chính của dòng dưới luôn nằm bên phải cột chứa phần tử chính của dòng trê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58760" y="4572000"/>
                <a:ext cx="2441520" cy="17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709720" y="5029200"/>
                <a:ext cx="193860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743360" y="4800600"/>
                <a:ext cx="196236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6811920" y="4800600"/>
                <a:ext cx="19512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EF32-2138-42D0-8203-F1AD9681DF3E}" type="slidenum">
              <a:t>32</a:t>
            </a:fld>
          </a:p>
        </p:txBody>
      </p:sp>
    </p:spTree>
  </p:cSld>
  <p:transition>
    <p:cover dir="l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1215360"/>
            <a:ext cx="8839440" cy="33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3.2. Định lý về hạng của ma trậ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ho A, B là hai ma trận cùng cấp. Nếu B là ma trận nhận được từ A sau một số hữu hạn các phép biến đổi sơ cấp thì rankA = rank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ệ quả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ạng của ma trận A bằng số dòng khác không của ma trận dạng bậc thang thu được từ A sau một số hữu hạn các phép biến đổi sơ cấ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30CF-D29C-40E5-8517-2C1ECC965BF5}" type="slidenum">
              <a:t>33</a:t>
            </a:fld>
          </a:p>
        </p:txBody>
      </p:sp>
    </p:spTree>
  </p:cSld>
  <p:transition>
    <p:comb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117756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3.3. Thuật toán đưa một ma trận về ma trận dạng bậc thang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2159280"/>
            <a:ext cx="8839440" cy="24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ến đổi sao cho phần tử chính ở dòng một về vị trí cột đầu tiên so với p phần tử chính ở các dòng khá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ến đổi sao cho các phần tử nằm phía dưới phần tử chính của dòng đầu tiên đều bằng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àm tương tự đối với hàng 3, 4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8088-20AC-496B-A454-072E23047C59}" type="slidenum">
              <a:t>34</a:t>
            </a:fld>
          </a:p>
        </p:txBody>
      </p:sp>
    </p:spTree>
  </p:cSld>
  <p:transition>
    <p:cover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0120" y="1142640"/>
            <a:ext cx="6540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4.4. Các phương pháp tìm hạng ma trậ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49040" y="1599840"/>
            <a:ext cx="698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4.4.1. Phương pháp 1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Sử dụng định nghĩ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2280" y="2102040"/>
            <a:ext cx="8915400" cy="41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ước 1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ính các định thức con cấp p cao nhất có trong 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Nếu gặp một định thức khác 0 thì kết luận ngay rankA bằng cấp của định thức đ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Nếu tất cả các định thức đều bằng 0 thì tiếp tục bước 2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ước 2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ính các định thức con cấp p-1 có trong 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Nếu gặp một định thức khác 0 thì ta kết luận ngay rankA bằng cấp của định thức đ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Nếu tất cả các định thức đều bằng 0 thì tiếp tục bước 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ước 3, 4,…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ho đến khi tìm được rank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25B8-DD6E-419C-9151-E05576D2B502}" type="slidenum">
              <a:t>35</a:t>
            </a:fld>
          </a:p>
        </p:txBody>
      </p:sp>
    </p:spTree>
  </p:cSld>
  <p:transition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31480" y="1220040"/>
            <a:ext cx="48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hạng của ma trậ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80880" y="1822320"/>
                <a:ext cx="364968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DF75-CB0D-4421-9B88-FB6F1F60E79A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52280" y="118692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4.2. Phương pháp 2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ử dụng các phép biến đổi sơ cấp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2280" y="213336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ể tìm hạng của ma trận A ta biến đổi ma trận A về dạng bậc thang, số dòng khác dòng 0 là hạng của ma trận 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73040" y="4108320"/>
                <a:ext cx="347652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155160" y="3504600"/>
            <a:ext cx="48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hạng của ma trậ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EA0C-2320-456D-8FAA-B7213EBF58F1}" type="slidenum">
              <a:t>37</a:t>
            </a:fld>
          </a:p>
        </p:txBody>
      </p:sp>
    </p:spTree>
  </p:cSld>
  <p:transition>
    <p:checker dir="horz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111204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Ma trận tam giác trên: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ij = 0 nếu i &gt;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23800" y="1682640"/>
                <a:ext cx="3819600" cy="205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489560" y="1679400"/>
                <a:ext cx="3816360" cy="205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/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/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/>
                            <m:e/>
                            <m:e/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162720" y="3809160"/>
            <a:ext cx="669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 trận tam giác dưới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j = 0 nếu i &lt;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20560" y="4343400"/>
                <a:ext cx="3899160" cy="20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495680" y="4349880"/>
                <a:ext cx="3899160" cy="20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/>
                            <m:e/>
                            <m:e/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/>
                            <m:e/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C760-DE7F-4C99-80A1-DBE8B09298AC}" type="slidenum">
              <a:t>4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7800" y="1142280"/>
            <a:ext cx="51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 trận chéo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j = 0 nếu i ≠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01560" y="1757520"/>
                <a:ext cx="3818160" cy="20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641840" y="1757520"/>
                <a:ext cx="3816360" cy="20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/>
                            <m:e/>
                            <m:e/>
                          </m:mr>
                          <m:mr>
                            <m:e/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/>
                            <m:e/>
                          </m:mr>
                          <m:mr>
                            <m:e/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</m:mr>
                          <m:mr>
                            <m:e/>
                            <m:e/>
                            <m:e/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299160" y="3855960"/>
            <a:ext cx="7910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 trận đơn vị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= 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 x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ới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;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≠j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635040" y="4495680"/>
                <a:ext cx="2793960" cy="203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6185-761F-439D-84F6-28E1A4B1EB64}" type="slidenum">
              <a:t>5</a:t>
            </a:fld>
          </a:p>
        </p:txBody>
      </p:sp>
    </p:spTree>
  </p:cSld>
  <p:transition>
    <p:comb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1142280"/>
            <a:ext cx="869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1.3. Vectơ hàng(cột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 trận chỉ có một hàng(cộ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5880" y="1689840"/>
            <a:ext cx="38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1.4. Ma trận khô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47760" y="2362320"/>
                <a:ext cx="2928960" cy="20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205920" y="4433040"/>
            <a:ext cx="526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1.4. Ma trận bằng nhau: A=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0520" y="5002920"/>
            <a:ext cx="376488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A=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B=[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ới mọi i,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BF50-65B0-4B31-B920-A17D4A402F45}" type="slidenum">
              <a:t>6</a:t>
            </a:fld>
          </a:p>
        </p:txBody>
      </p:sp>
    </p:spTree>
  </p:cSld>
  <p:transition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9280" y="1158840"/>
            <a:ext cx="810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1.5. Ma trận chuyển vị: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=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&gt;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 x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49200" y="1778040"/>
                <a:ext cx="4222800" cy="20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7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</m:e>
                          </m:mr>
                          <m:mr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9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8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7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2316-B1A6-4432-8583-4A34F98EBF77}" type="slidenum">
              <a:t>7</a:t>
            </a:fld>
          </a:p>
        </p:txBody>
      </p:sp>
    </p:spTree>
  </p:cSld>
  <p:transition>
    <p:checker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.2. CÁC PHÉP TOÁN TRÊN MA TRẬ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2720" y="1751760"/>
            <a:ext cx="498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2.1. Phép cộng hai ma tr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6640" y="2255760"/>
            <a:ext cx="8396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 Định nghĩa: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=[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x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; B=[b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xn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+B =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x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14280" y="2997360"/>
                <a:ext cx="57056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356040" y="4085640"/>
            <a:ext cx="6653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Tính chấ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+ B = B +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 + B) + C = A + (B + 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A =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ếu gọi -A = [-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thì ta có -A + A =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E6A2-8E43-44DA-AB5B-2D53F7CD8179}" type="slidenum">
              <a:t>8</a:t>
            </a:fld>
          </a:p>
        </p:txBody>
      </p:sp>
    </p:spTree>
  </p:cSld>
  <p:transition>
    <p:comb dir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6600" y="1156680"/>
            <a:ext cx="64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2.2. Phép nhân một số với ma trậ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1660320"/>
            <a:ext cx="8763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 Định nghĩa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cho A=[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=&gt; kA=[k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11120" y="2508120"/>
                <a:ext cx="355140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154440" y="4243320"/>
            <a:ext cx="44280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2. Tính chất: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ho k, h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(A + B) = kA + k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k + h)A = kA + 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38480" y="298620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ính 2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C8EE-CC28-40B3-9E09-43056D934E24}" type="slidenum">
              <a:t>9</a:t>
            </a:fld>
          </a:p>
        </p:txBody>
      </p:sp>
    </p:spTree>
  </p:cSld>
  <p:transition>
    <p:zoom dir="ou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9T13:32:52Z</dcterms:created>
  <dc:creator>Acer</dc:creator>
  <dc:description/>
  <dc:language>en-US</dc:language>
  <cp:lastModifiedBy>Acer</cp:lastModifiedBy>
  <dcterms:modified xsi:type="dcterms:W3CDTF">2009-09-14T04:24:24Z</dcterms:modified>
  <cp:revision>388</cp:revision>
  <dc:subject/>
  <dc:title>Nguyên lý thống kê</dc:title>
</cp:coreProperties>
</file>