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A1A4-E43B-4EB5-9B1B-F4E09E2F6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9E84-FA33-44AB-8AF8-B21A66E1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602B-EC5A-4E9A-BA04-560D1A61D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A43C-0AF1-44E3-B695-9FCDCFC02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909F-DF5F-4B17-8C53-9F47026A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CFDF-331F-4E8C-9840-12AC726E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BB51-EE10-4ADC-8188-2126A24D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6E67-9ABB-4B91-B95E-13AF1E7B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44B7-80F0-4783-916B-E0BCE4ED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D0FD-4030-4E5C-B581-7C213134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4A2A-BFE9-448B-8EFA-4442381E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7198-5AEB-41D9-8C55-44089DD8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051C-1BB1-480B-AFCE-71A3C054A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6-04T15:17:45Z</dcterms:modified>
  <cp:revision>31</cp:revision>
  <dc:subject/>
  <dc:title>Diapositiva 1</dc:title>
</cp:coreProperties>
</file>