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A374-27FD-42F7-B97E-F3A1A2EAD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8AD7-659B-4B23-8FE2-70177EF7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2F3B-93F0-4B82-B062-56E2A043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DB0D-6030-4E60-80F8-A93900865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D1E9-D115-47CD-AEBD-2E462A22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D12E-510E-489C-B0E7-16D0A791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C847-DE46-4279-817F-7156D998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691B-93EB-4E60-8109-8575A66F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F669-471A-4B8D-A6A7-E2BD543F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87F2-AB55-4E90-A157-6BEF0146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EBE9-31B6-4566-A3C8-FD1E5836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10F6-277E-4626-B3EE-84C2EDFD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D2BB-2407-4A38-9681-48E4510C0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3284280"/>
            <a:ext cx="4965840" cy="15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Mariajose</cp:lastModifiedBy>
  <dcterms:modified xsi:type="dcterms:W3CDTF">2009-12-13T22:10:16Z</dcterms:modified>
  <cp:revision>19</cp:revision>
  <dc:subject/>
  <dc:title>Diapositiva 1</dc:title>
</cp:coreProperties>
</file>