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B24-69E9-46A4-BB51-90D5439A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1FC-533A-472E-812B-E5EC35EE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87B-F005-43FE-B13B-868558CC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262-EA54-4587-A9E7-826BC249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416B-3C32-4B89-9FA0-53A63084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CA0-C170-4F98-8A21-196FCA0C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331-638C-43F9-AEEF-94922F09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C0A-53A5-458C-A93B-86C640E7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0A8-9B46-42AC-ADED-8BC31D43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C4F-8361-4517-A504-8B9D49E0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A5F-21CC-4D99-B2D1-479DCF6D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289A-39DA-4F78-81C2-4A9852A2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010C-4ED0-40B9-A1C4-7196C2599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0T23:58:40Z</dcterms:modified>
  <cp:revision>187</cp:revision>
  <dc:subject/>
  <dc:title>Diapositiva 1</dc:title>
</cp:coreProperties>
</file>