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77E-172F-497C-A281-837902CE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E074-ACE0-4520-A3CD-60D4DD67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650D-3DDD-4902-8C51-7EEBC0C0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79C-D698-4C37-B015-F2F2F2CE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08F-2B11-4004-BCB2-DD87890F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387C-E5FD-4AC1-A6CE-0895D74F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DE06-1F0B-4D1E-8438-A4DEA80B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D6FD-265D-4CFD-A877-D62F4C3F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9C0F-EDB8-42CF-9EFC-A3D30CFE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BFA-37A3-40AD-9A3F-A913FA21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ED6-9758-48C5-A392-3EF5B7C8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A54-61C3-4043-A5C2-8CD80A98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CAB5-311B-4134-95BC-60BF4008F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8T01:14:46Z</dcterms:modified>
  <cp:revision>180</cp:revision>
  <dc:subject/>
  <dc:title>Diapositiva 1</dc:title>
</cp:coreProperties>
</file>