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99EC-05FF-492B-860B-61EB65BC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21AC-7131-4896-AEC0-2D71EE53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8B52-676E-41FF-B7B9-EC7B7759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6E37-BE2D-405D-8A05-5A55F689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03E1-D571-44C7-907B-1D83F0E4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A3FE-FC2F-4C3A-BA1D-9FD88655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20C0-563A-4025-A859-9BBF44EE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0FD1-DF98-4035-9992-703FF831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3928-8109-4588-A285-6D9C2979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2963-E4A4-4BE8-A0B7-9649BADA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1ACF-00F0-4F31-8694-797E7EB7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CA68-04DC-45A6-92E6-60423863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8E6C-0777-4BB0-A9DF-861C367E3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Mai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riajose</cp:lastModifiedBy>
  <dcterms:modified xsi:type="dcterms:W3CDTF">2009-10-08T20:15:09Z</dcterms:modified>
  <cp:revision>4</cp:revision>
  <dc:subject/>
  <dc:title>Diapositiva 1</dc:title>
</cp:coreProperties>
</file>