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E99-2641-420B-AEC0-7A44403C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9FC0-39CF-46CE-88FB-7CAB4F05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5F5C-F87A-470B-A4E8-A763A5C0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2601-1531-42F4-B884-B48B3EEC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BA09-9BE3-4EFB-940A-1BC215C0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7C1-46AD-4ACC-A310-D3A4806C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AE8C-72C2-4980-861D-5A4796F5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96D8-4D1E-4E9A-A8C7-70226F7A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B2F6-0D69-4EC4-99BA-500A1372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5607-EF98-4340-813D-D90A3E19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F4DA-CE4F-4913-854E-40B3E1AD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EDA0-28DF-4971-ADC1-809CA48B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4AC3-53AA-4A15-8AE0-69DADE30D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3:31:36Z</dcterms:created>
  <dc:creator>Mariajose</dc:creator>
  <dc:description/>
  <dc:language>en-US</dc:language>
  <cp:lastModifiedBy>Mariajose</cp:lastModifiedBy>
  <dcterms:modified xsi:type="dcterms:W3CDTF">2009-09-16T15:22:29Z</dcterms:modified>
  <cp:revision>9</cp:revision>
  <dc:subject/>
  <dc:title>Slide 1</dc:title>
</cp:coreProperties>
</file>