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A72-7540-4A2A-BE1E-63794AB8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793-C8D7-4E49-A876-08F01B4E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670-F502-4BE3-8E31-F06A2D06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864-152D-4B30-B8B6-0B546C48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417-ACA3-4E2B-95BF-FF440A2F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917-BAAA-43AB-BA6A-BE34B1CB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0A8D-2322-4641-B319-D242E0B1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209-6243-4FEF-BFA0-F5E9C38B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BAD3-CAD3-4E4E-BF93-FBFD5443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C36E-0388-427A-B3B3-09450FDB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F0E-A501-4E86-85DE-39E7F7B2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66B-3674-4683-A64A-33A1C46A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C5BB-2181-4A82-9B4B-E3702D0C6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0T23:58:40Z</dcterms:modified>
  <cp:revision>187</cp:revision>
  <dc:subject/>
  <dc:title>Diapositiva 1</dc:title>
</cp:coreProperties>
</file>