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6D2-9447-48C7-B64F-38AE2D74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4C0-FE33-4FAB-BE7D-05CC4015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8555-9346-476B-900E-0E9FF282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4B2-B8CA-4C3C-AE60-C0DE5032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10E-2E47-477B-BD87-9BE396EC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208-0D4F-4DA8-B1DD-B887C5F8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4B4-14D2-4E26-9158-407D039D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8BC-5941-4234-B27C-AA01F44E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9B8-96A6-443E-80D9-D262F5FA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D45-7C07-4C9C-8BE8-B4A086B0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A2F-238F-4EFF-A9A8-B58F561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88A-0B79-4FEB-9A39-17E4A64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3337-290A-4A8F-BF12-8505076D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8:40Z</dcterms:modified>
  <cp:revision>187</cp:revision>
  <dc:subject/>
  <dc:title>Diapositiva 1</dc:title>
</cp:coreProperties>
</file>