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54B-7F26-4363-A942-C6414C9FC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227-3FAE-4BB0-A87D-2D57E770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D4D-F181-4C9A-9666-5715C88B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4A1-EFF5-4E93-8F33-3A89769A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FE9-73B5-41B1-8AF3-080A5BB1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B0F-8FD0-4FCD-B150-9EF3690E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ED5-2393-4207-A29D-3CDD0D69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517-3E42-46C9-997F-D587D75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3C2-B6C5-4D27-B6F8-CA3CB3D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6E27-A12F-4EB4-AE59-1F72718B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E5F-28BC-4D11-B628-7AD458BC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CB3-0933-4A29-BE2E-B8E8A2B2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7B49-93CF-46D4-B0F4-1E98BBD69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3:31:36Z</dcterms:created>
  <dc:creator>Mariajose</dc:creator>
  <dc:description/>
  <dc:language>en-US</dc:language>
  <cp:lastModifiedBy>Mariajose</cp:lastModifiedBy>
  <dcterms:modified xsi:type="dcterms:W3CDTF">2009-09-16T15:22:29Z</dcterms:modified>
  <cp:revision>9</cp:revision>
  <dc:subject/>
  <dc:title>Slide 1</dc:title>
</cp:coreProperties>
</file>