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FF0-E5CA-4470-8303-583BA6CD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E36-3BD1-4597-ACE3-2D6EE154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1AFE-46CF-4F0A-A11A-62DEA9BD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BA1C-AABD-4E16-8032-3A46F7FD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847-958E-4BA7-BFEB-19B7FC06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D84-9220-4E40-B204-16C8687E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925-C606-4983-8420-B046CD20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D591-A9D8-424B-97E9-5F0580E6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4130-1EB2-4499-A130-B50491E9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DEB-7C96-490F-A1E8-788D1240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5CF3-56DE-4235-884D-8219DD3C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A6D-EA94-498A-BC8B-BC36EF51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4B7E-0222-4A95-83FD-33B9E1F85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8:52:54Z</dcterms:created>
  <dc:creator>Mariajose</dc:creator>
  <dc:description/>
  <dc:language>en-US</dc:language>
  <cp:lastModifiedBy>Mariajose</cp:lastModifiedBy>
  <dcterms:modified xsi:type="dcterms:W3CDTF">2010-01-04T18:55:45Z</dcterms:modified>
  <cp:revision>2</cp:revision>
  <dc:subject/>
  <dc:title>Diapositiva 1</dc:title>
</cp:coreProperties>
</file>