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0026-9421-4A20-A46F-A0CD85065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4BC4-BB9B-4ABC-A606-010D7EA4F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5DE6-CDA1-4156-B1E2-2089AC39F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C559-860D-4272-9694-60F95B48A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6FF9-58DD-4958-AB85-C69A752C0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A7E0-8DCC-4F14-A964-90D90503E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E713-3FF9-4B30-9AC3-DCE68ACBA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4333-458D-4CE3-BFDA-227053039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AEE0-3002-4CA9-AABA-3F21B1EF6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7AC4-5E5A-4CAD-BBE1-EFE75C3D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BDBF-AC5A-478B-B225-9314C73E1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E761-38BA-455C-B522-4F5F5BC58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24C66-816F-4880-B542-1FBBF6A813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0-06-04T15:17:45Z</dcterms:modified>
  <cp:revision>31</cp:revision>
  <dc:subject/>
  <dc:title>Diapositiva 1</dc:title>
</cp:coreProperties>
</file>