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93BA-3649-4F64-AE69-86D1CAC5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022D-C274-4E09-AF21-721EF4D0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0B36-6386-47DC-AD08-1E0466B6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043-79B0-4B5F-B3E6-3016046C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70D-CBC3-4900-9A23-80CF8898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730-CB68-4764-AFA4-3A78242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CBF4-2E23-4F41-BDBE-4AB51D1D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E82-7BE6-447A-AACC-892B757B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D4A-049A-4E57-A0E4-9067563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B47-03EC-452B-9D0B-51DC506D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AAB-0892-4345-B896-86A7774C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CAC-EC4C-4F62-B170-68D1AD9D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D55-DCAC-4E6F-82BE-D02A1190C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284280"/>
            <a:ext cx="496584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2-13T22:10:16Z</dcterms:modified>
  <cp:revision>19</cp:revision>
  <dc:subject/>
  <dc:title>Diapositiva 1</dc:title>
</cp:coreProperties>
</file>