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0D9-37FF-4550-88F3-E5668FCC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FC2-9850-4026-80E6-8023C86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D57-C144-4BAA-A77E-086BFD56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679-F235-4523-8665-0CCD0838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F33-DAC4-496A-BFEB-D9F7485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A7-154F-4DBB-8CCA-9437EAA0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907-EB7B-4972-8111-C01D7E8E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A7D-B927-4ECE-B940-86A9DEF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0E0-E657-46E6-B802-3BAC6EE9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888-9CCF-4834-9D8A-54B9B0E4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655-08CC-4234-A586-B4E5F6EC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40C-F242-4D5E-93B8-CC48AF1E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25A5-396A-4D78-87E4-74F623763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10-08-06T16:51:09Z</dcterms:modified>
  <cp:revision>10</cp:revision>
  <dc:subject/>
  <dc:title>Title</dc:title>
</cp:coreProperties>
</file>