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7EC-33AC-428E-A683-9C0D037E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403-0716-4B6E-82F5-E052B13D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20F-7FAB-4D8C-8B4E-6D3C14FD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0586-3B75-4043-8B44-CBDC8D70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1E0-21E8-4B03-8560-F8F93559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95E-6929-4B15-8E18-B06E2CB0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ADDE-0F9F-4029-AC23-109AC505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9FC-AD82-438B-8C1F-691640CB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3D4-3CEF-47CC-AD39-10FFE197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25F8-F630-44EF-B9FC-BDAFE31D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B04-9026-4547-AB50-414208E3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67A-BCD6-4358-ACA8-50304457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33BE-E4AD-4A6E-B13A-CF6202433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Mai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Mariajose</cp:lastModifiedBy>
  <dcterms:modified xsi:type="dcterms:W3CDTF">2009-10-08T20:15:09Z</dcterms:modified>
  <cp:revision>4</cp:revision>
  <dc:subject/>
  <dc:title>Diapositiva 1</dc:title>
</cp:coreProperties>
</file>