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308-E7F4-4CA5-B6F4-11D8A8F2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EB1-D113-44F6-95FE-47489ECE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87C-D954-44D6-A541-4B65A3CE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A1C-34A3-4038-BD9F-3AF0AADE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968-C8C6-4ADE-BD07-0F5AC8FD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88B-7D8C-494E-B030-F59AD18F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32F-C0A8-4D89-B649-F8AC5979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97E-7F95-49BC-97AC-0D4C5BEC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62C-87DB-45B5-B615-81B4E492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6FD-6A88-4B0F-9FED-38FD5C03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6317-055E-42B8-B5BB-B4FA7FEA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76B-FD88-4EE8-BEF3-F97E0120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7C5D-83DF-4E57-8AD8-69946A886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04T15:17:45Z</dcterms:modified>
  <cp:revision>31</cp:revision>
  <dc:subject/>
  <dc:title>Diapositiva 1</dc:title>
</cp:coreProperties>
</file>