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292C-38A5-4B40-A599-6342BE174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7005-D120-436A-B4EC-A30701E2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2DA6-80BE-477C-A427-4B486954E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B4D7-0BAD-4C73-89FC-2E838590E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6F8B-294B-48CC-B37E-EB56FDBA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0096-3047-4836-8BA2-7BE25322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CF21-378F-4DB1-8247-352F5D00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76FD-AE5C-430E-83D8-4BA9690C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B269-D724-4E1A-9B15-1620E8C6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803C-68E6-4764-8E72-02605671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ACC0-486E-441B-8D04-B4AE93EE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06A6-03CF-44D6-B3A3-F3115026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FBF7-239F-4820-BFCA-C8BC60826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9-08T01:14:46Z</dcterms:modified>
  <cp:revision>180</cp:revision>
  <dc:subject/>
  <dc:title>Diapositiva 1</dc:title>
</cp:coreProperties>
</file>