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555-D0D5-4D06-B598-69D0DDAA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F43-9C21-4953-9E01-9D9010AA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994-1A2B-49C8-B779-53D26C07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E47-2C6C-4E14-91ED-10A4879C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7DA-7379-4603-AD32-EBCB8586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247-CEB8-4AF2-BCA3-8AE1B15A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8F1-5649-4FC3-A7A0-5DF572FF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59B-B615-41E8-951F-745F78240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626-3F58-4C6C-83E0-FFAE9C4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33D-0A0A-4462-A042-22D08D2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FFA-5579-4364-A6F7-EE2D0DA5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7B0-7B6B-41EA-8626-F050827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7C92-BE60-49D3-B099-6D850FB05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8T01:14:46Z</dcterms:modified>
  <cp:revision>180</cp:revision>
  <dc:subject/>
  <dc:title>Diapositiva 1</dc:title>
</cp:coreProperties>
</file>