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4CE-0FFA-4FA7-B673-84F2BDAE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BB9-27BE-4C67-B72E-C9E93230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3E6-D7A8-443D-A0E9-4F715FF2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185-1FD5-4B65-A621-AA75A3BF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DA3-1E96-45CF-9B77-09988AB7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302-E234-4169-B563-A28DC32F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953D-0748-4D28-B9DD-2CCBD362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9A7-613D-4B0D-922E-2D06B95B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93A-8E54-4904-93F3-F48C407B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767-57E3-4C5F-A72D-397A57E4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824-BBD7-4666-8057-2DC469B4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190-2628-441D-AB0D-9FCC0215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0F91-82EB-4F4C-B931-98AD4684C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10-08-06T16:51:09Z</dcterms:modified>
  <cp:revision>10</cp:revision>
  <dc:subject/>
  <dc:title>Title</dc:title>
</cp:coreProperties>
</file>