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8818-8FA2-4683-8AC7-F7EB09381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61AA-0915-49F6-8601-EA5188D3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EF65-40C9-4652-A4A9-C6253DC76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E3FF-9790-465A-BD95-F6ABEE28C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6A80-4911-427E-8833-2F3E7C36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F0B3-7F83-4C05-A74A-292FD114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A05B-2BFB-41AE-B83D-A262869A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AA29-9F8D-4E16-ACDD-6F05B8FE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2F33-5150-4D37-A434-E7A8B81D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77C9-B4F8-4BBA-A0D8-C1F4AEC2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4B83-582C-4240-B1F8-4D3C0619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0988-A7CF-4DCB-9A0C-916B737E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6F50-50EF-4DA1-ADD2-1532B3C98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1844280"/>
            <a:ext cx="4105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600" spc="-1" strike="noStrike">
                <a:solidFill>
                  <a:srgbClr val="6633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2781000"/>
            <a:ext cx="331308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663300"/>
                </a:solidFill>
                <a:latin typeface="Arial"/>
              </a:rPr>
              <a:t>Subheading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5-20T19:29:18Z</dcterms:modified>
  <cp:revision>554</cp:revision>
  <dc:subject/>
  <dc:title>Diapositiva 1</dc:title>
</cp:coreProperties>
</file>