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D4B-B082-4C3F-978B-F42FA84C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C22-5C41-40DF-95A3-F9315289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478-8C53-4051-8DE1-F684DC44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D41-0DD0-4E69-8ABD-44AADB9B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741-5E81-422F-9A61-D0B6D729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C2A-0DC8-4765-BE65-8A8E1642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317-BFE9-4BB9-8EC9-787CA8A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B5E-82BE-424D-9FB5-20E88C50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DA5-C77A-4D04-9BB2-5E6597C3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2C7-D1DB-40FE-84DD-E931F8C9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FEC-EC80-4DF2-9C61-AC5C1DF6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859-4327-4816-9181-19AD1E18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4C49-642A-450C-B694-A803473FD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4105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66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33130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633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20T19:29:18Z</dcterms:modified>
  <cp:revision>554</cp:revision>
  <dc:subject/>
  <dc:title>Diapositiva 1</dc:title>
</cp:coreProperties>
</file>