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F8D-4E5E-4CBD-A663-8081834C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904-9118-4BA1-973E-4CB376F1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9A0-89DF-445E-A039-435D2BC5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FD7-0B4F-45F8-ACAC-A71441EB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20D-9BEE-4A46-9979-5F1B710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EDF-B5E7-42B5-86B2-3BC9A7CD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A87-0BEA-41DC-B6EE-4768541E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510-E06A-4546-830B-D0B5D87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EFF-DEF8-4A9D-8374-B35FA05A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6D7-0F00-4056-80B7-F96BDA9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6C6-4DF1-4EF3-8485-2D2E8A2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749-12BA-439F-9027-BAE4F601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827E-F907-4614-AAE5-C520400D9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4105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3313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20T19:29:18Z</dcterms:modified>
  <cp:revision>554</cp:revision>
  <dc:subject/>
  <dc:title>Diapositiva 1</dc:title>
</cp:coreProperties>
</file>