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F07-DC77-48DC-9D5C-1DE11CC5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7FC-4299-4FB3-A873-72ABA3DE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03E-1B9D-4B93-A7B8-911D77C2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04C-DA98-4ABA-9DB3-842EFBCE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DF9-366E-4E2E-9867-F846FDBA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876-E54E-437F-9A3F-01DE4F6D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C8A-9B09-4413-AD3A-ED75B4FC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8B0-D0F5-46D8-B1A2-4BB2F18A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BDD-CD67-48BC-958A-77E32876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BAB-5DDF-4995-B346-82A29E7E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EEB-5D6A-4CC3-8ECC-CA2F04F1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37D-6987-4872-B3CC-BD6E8DD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1EB6-D99A-477E-AD5A-C59CF3DCC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869000"/>
            <a:ext cx="48956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a00425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21400"/>
            <a:ext cx="4895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a00425"/>
                </a:solidFill>
                <a:latin typeface="Arial"/>
              </a:rPr>
              <a:t>Subheading goes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9-18T23:37:50Z</dcterms:modified>
  <cp:revision>689</cp:revision>
  <dc:subject/>
  <dc:title>Diapositiva 1</dc:title>
</cp:coreProperties>
</file>