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ACE-B40E-454B-A2DF-4EC845CA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4CD-DC22-405B-AD12-7C38848E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BA7-765E-48A5-B4C5-6346C01A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39D-D50E-4F65-A475-6702A946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775-EC1E-4BCC-A364-1231BF5D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378-BF9A-4F34-9092-8EC4E04F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6CE-E3F8-489E-AE5A-3365D710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636-C57E-499F-B758-E5B237C8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AD3-B551-403A-9989-CF9FE20A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297-7F35-4421-827D-F74B78BA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28A-AA7B-493A-B966-D5389FB8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92F-F6AD-413E-B451-431E6F46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761D-A5AA-4BD4-82BB-FE3B7411B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445000"/>
            <a:ext cx="5111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01T17:12:13Z</dcterms:modified>
  <cp:revision>728</cp:revision>
  <dc:subject/>
  <dc:title>Diapositiva 1</dc:title>
</cp:coreProperties>
</file>