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CAE-B98C-436E-92D3-3D40694C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DC7-0D64-40C4-A00D-D5AD423C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7BE-BD48-44FF-B716-FCD8B2F8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560-DC9F-48C3-8FE2-019FE7CA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E51-5BCA-43F0-BAF2-115595CA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72E-9F9D-4604-BF47-8CD3EB6E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F71-B202-4951-A8DE-1726498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C32-1D19-44F6-918B-0739717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AA7-D481-4F0C-8623-24AF156D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05B-AD99-4E48-8C1D-5C8DE59F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4DD-BEC8-430D-9B00-2546C7E0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DAA-29D4-4B70-88A5-36684D9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DEA4-7B69-4FB3-BA2B-2FCA745E5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781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860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28T16:20:52Z</dcterms:modified>
  <cp:revision>715</cp:revision>
  <dc:subject/>
  <dc:title>Diapositiva 1</dc:title>
</cp:coreProperties>
</file>