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32A-E07E-45DE-A159-5BF742D2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A89-61AF-4B7A-8FE6-C3AECC97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DFC-7BA9-4C77-93FA-86D934FA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EA2-2F43-4E73-B53D-CEAEDA0D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DDD-FAE8-4194-A804-1620F4B1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595-F9A5-4374-A1AA-4E238B76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052-CC65-4F13-9001-AEAE49FA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118-6D3D-47E4-B048-3E879799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2BD-85F6-4B1D-83E9-DD7F6F58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061-07A7-4DAF-A933-43D7274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B71-1364-45A6-9A45-663AB18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EAF-3B4B-4423-B7C8-DC2F0F9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B57A-ED3D-4E8E-9196-11FB7BEEB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4895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a00425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2140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a00425"/>
                </a:solidFill>
                <a:latin typeface="Arial"/>
              </a:rPr>
              <a:t>Subheading goes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18T23:37:50Z</dcterms:modified>
  <cp:revision>689</cp:revision>
  <dc:subject/>
  <dc:title>Diapositiva 1</dc:title>
</cp:coreProperties>
</file>