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7E6-21F5-43FE-A68B-E0289932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E8C-BC71-4894-A886-46D09B73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339-7E2E-42B1-AFA2-D627EB1E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2B9-FFD3-4689-A078-2AAE88E1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CEB-8A9C-49E0-B297-2BFBECDC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490-C85D-4DB8-AAE5-5F45C785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4FA-946C-4DB6-B1C0-6ACFA129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FAF-7ED3-453C-9B9D-9F8C3488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171-A3DB-4B78-A182-2B396ED0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0E3-A600-4F70-99F5-3553CD43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61C-0A48-4FB5-BD46-02CD517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B53-320A-4BBE-8509-247E9B70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40BA-6D26-4AE8-8BE3-A4011B7AD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445000"/>
            <a:ext cx="5111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01T17:12:13Z</dcterms:modified>
  <cp:revision>728</cp:revision>
  <dc:subject/>
  <dc:title>Diapositiva 1</dc:title>
</cp:coreProperties>
</file>