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898-3FF1-45EE-80BF-004C99EF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8E9-D5A4-4B95-BB26-DA2FAA70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337-34FE-4664-BE3A-608E40DB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C66-57E9-4985-8829-F7E369E2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5A7-C38B-4ECD-812C-54323982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6C1-B2C4-4739-A409-40566ABE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F2B-5A86-4CC6-879B-EC0B3F58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7EA-C8E1-43C1-BF1F-B460C735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4A1-04C3-4AE1-B50E-489BA920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9F1-5E87-4FFA-A6DB-8EF221E5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950-9F9B-48C2-B945-5F8144CE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8B6-FA2E-4256-9E63-9DADB099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3FE6-2663-4576-AEE4-E523B78B0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781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86064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28T16:20:52Z</dcterms:modified>
  <cp:revision>715</cp:revision>
  <dc:subject/>
  <dc:title>Diapositiva 1</dc:title>
</cp:coreProperties>
</file>