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858-FD29-4204-8618-D6D7457C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4BA-A2F8-475D-B41E-4366C9AE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CA5-415E-4DEC-AC41-D5279030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B74-1D79-4221-855D-2C964F7E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F7C-B08C-475D-87EA-C927C114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A6A-1794-47C5-9302-80DF8B72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A58-CD7F-4000-93D0-05753112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B08-24B1-4A43-81DB-D098A155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DF3-0EC3-4745-AA4F-CD373363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0FA-7CA8-43FC-92E9-E7E09721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EEB-0235-4742-99C5-5F20A0CF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72E-AF59-4FED-A743-4AA99F83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D89B-2E72-4ADA-B3A9-71F778797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445000"/>
            <a:ext cx="5111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01T17:12:13Z</dcterms:modified>
  <cp:revision>728</cp:revision>
  <dc:subject/>
  <dc:title>Diapositiva 1</dc:title>
</cp:coreProperties>
</file>