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F4A-D1C6-4615-83D1-7347C748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648E-9245-400C-B02B-1AA4AC0A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F23-5705-46B8-81F7-D15BC2A1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D8A-F8B9-4A80-ADE9-2F372C46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5BE5-E685-4F79-B775-1C6CBD54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F4E-D61E-4734-BAA2-5644AAA6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F3D-F657-44DB-B220-8F2B4C70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E6E-33C1-4DE7-A8E5-C9750F41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E87-F661-4CBD-B9AA-FBE40AF7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2C8-8304-4CDB-9A24-C01731F5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BEC-EDB1-4A3A-B996-0E846A27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82BA-405E-4219-BC3A-E5BE689A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566D-2604-4450-B5FF-C8F86BBB4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4868640"/>
            <a:ext cx="7345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445000"/>
            <a:ext cx="5111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Your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9-01T17:12:13Z</dcterms:modified>
  <cp:revision>728</cp:revision>
  <dc:subject/>
  <dc:title>Diapositiva 1</dc:title>
</cp:coreProperties>
</file>