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BCF-AC54-49C3-BE38-DB6DECC2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1C6-2177-4522-B0F4-1D4D94B3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5A8-DBF7-4BE5-A721-269CEE0B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8C2-E28E-42B2-BE4A-1DFF9CCC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997-7960-4F05-A5E5-A73541C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44C-7D81-4741-B46C-13FDDDDE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311-90B1-4715-9622-829BA363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068-908D-4E5A-8D43-D4C74DFD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46E-D5F8-4C0D-8A95-F755D3FC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F41-9890-4613-BBAF-9A4E2C6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26F-8EBC-4EDB-B358-030CF6DA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338-9502-406E-9A4D-D78BD2BE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A42-D1CC-4339-AAE3-643672FC1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4895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a00425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2140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a00425"/>
                </a:solidFill>
                <a:latin typeface="Arial"/>
              </a:rPr>
              <a:t>Subheading goes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18T23:37:50Z</dcterms:modified>
  <cp:revision>689</cp:revision>
  <dc:subject/>
  <dc:title>Diapositiva 1</dc:title>
</cp:coreProperties>
</file>