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8129-9E14-461C-9AB8-BA91589D2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79D2-816B-4387-AB06-DBDCE21C5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FFF6-20CF-4039-A0E6-8BF2A70E5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3AD2-EBF7-4E05-A245-3BC0A3E3A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F20F-E399-42FE-A889-24DE3BE67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5086-5D6A-4C36-AC3E-E3DB426B5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5A2B-7E52-48B8-BE67-B27156500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98F0-537A-4B38-AA5F-7111BC401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8366-D88B-440C-99FE-04ABD94A5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5D44-A720-425C-B263-14BD546A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CF1F-7FB4-4D27-888D-961B1943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EE9A-638A-42FB-AF82-F4FD1307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F7FD9-6D5F-4242-B76B-8B3FE77A5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4868640"/>
            <a:ext cx="7345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5445000"/>
            <a:ext cx="5111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ffffff"/>
                </a:solidFill>
                <a:latin typeface="Arial"/>
              </a:rPr>
              <a:t>Your contact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9-01T17:12:13Z</dcterms:modified>
  <cp:revision>728</cp:revision>
  <dc:subject/>
  <dc:title>Diapositiva 1</dc:title>
</cp:coreProperties>
</file>