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4DF-7A6C-4ADA-88D7-69AF5B05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57E-5506-4EAC-B2CA-3273DA18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954-661A-4D89-BDD9-3D6AB150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C98-9801-4689-B607-9F724C32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80E-4FA1-47F3-8332-35F8E14E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011-5FA5-47E7-B0B3-03662610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E4D-8B44-4989-80E5-5D0F6781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8AF-AF49-408D-9A8C-DBD54C81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3C1-647F-4E54-91B6-2159B949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9AA-D3C9-4B53-ACD0-7C90360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A09-B06C-4007-8ABB-09C444C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307-2615-46A0-9E8A-3DDBC471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DFA-8A47-4BCE-8EDA-DAA1B13B0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4895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00425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2140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a00425"/>
                </a:solidFill>
                <a:latin typeface="Arial"/>
              </a:rPr>
              <a:t>Subheading goes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18T23:37:50Z</dcterms:modified>
  <cp:revision>689</cp:revision>
  <dc:subject/>
  <dc:title>Diapositiva 1</dc:title>
</cp:coreProperties>
</file>