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6B2-91DB-400A-9353-6DD9B75C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9601-81F6-47B5-B281-7BF4F208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B0FB-823B-422E-B6B3-7FFBFE50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F924-3923-4F91-BDFF-839C48F5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1CD-B2AE-4BD7-9366-ADCED0C1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5DA-44D9-4AB0-A622-B1C1413A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F420-A2E5-410A-A854-3A61D2F7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2FE-A504-44EB-8F93-B3A3B635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80F-6C37-497B-B374-262DA180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E44-F27F-4A11-B147-E79BE8F2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06C-E9FA-4115-871F-AE636CD1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8DC-5A57-4E52-8D32-6605E3BD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A5EF-AC3F-4193-867F-720B2DF7B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2781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860640"/>
            <a:ext cx="568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8-28T16:20:52Z</dcterms:modified>
  <cp:revision>715</cp:revision>
  <dc:subject/>
  <dc:title>Diapositiva 1</dc:title>
</cp:coreProperties>
</file>