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CEB-DDA2-41BC-9A21-170D0FED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B39-0C8E-49E8-960A-CEB9861B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869-3013-4DF9-AAF3-98384D69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61F-A0CA-4455-8E6F-FFAEA181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592-2419-4D2A-8311-7F2AD361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44E-DBFD-4C51-8B56-22FA4270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D37-C18C-476F-9399-D616EA1C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533-25F7-4DC1-AE88-B349BBA4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A75-C1D8-4E16-8E63-F2CB53FC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824-24A0-4358-BD50-2FA1E883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15B-30A9-4F93-9FDB-121C6E77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4D1-30E8-4FF6-9C7F-8411DE9C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3A41-B482-49E6-9FF8-D0382D4D5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869000"/>
            <a:ext cx="489564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a00425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21400"/>
            <a:ext cx="4895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a00425"/>
                </a:solidFill>
                <a:latin typeface="Arial"/>
              </a:rPr>
              <a:t>Subheading goes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9-18T23:37:50Z</dcterms:modified>
  <cp:revision>689</cp:revision>
  <dc:subject/>
  <dc:title>Diapositiva 1</dc:title>
</cp:coreProperties>
</file>