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E05-5E1B-4769-8C3B-AF464218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E4F-5BE8-41A2-8FB1-65CCAF57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8A1-DEBC-4485-8FC8-6940BD3D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C79B-830B-4E36-BDCC-EF266D05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2F6-E707-4C76-A885-089F9AAB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C96-5E51-4431-B0C1-8A0CDA6A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BC2-4C96-4587-A1E5-ABF7A311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DB4-6350-4C28-8135-251D8F04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412-D3FA-4F44-8460-53367904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3B6-12ED-4A57-9B38-04D3D894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BFA-3268-438A-B4B5-27C0FA04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16F-D232-47E9-A012-8ECBB855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5914-800E-490F-84E3-DF27A71A2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2707920"/>
            <a:ext cx="5254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7T21:34:57Z</dcterms:modified>
  <cp:revision>52</cp:revision>
  <dc:subject/>
  <dc:title>Texto</dc:title>
</cp:coreProperties>
</file>