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D90A-0389-440C-ADCE-D010D374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DAF-48CD-48C3-9837-4322910A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756-480B-469B-9A6A-7E7372B0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BA3-4A2D-4443-9806-58146A85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C0E-94CC-4581-A214-86DCC150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7A4-4AD0-45A1-ADE7-A16FB96D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FCF-177A-4421-B118-95EBDFA1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A0D-AF16-48D5-B8FA-A91EF551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E79-4DF9-4B5E-8C33-0C4D01CC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AAEB-4AE0-4CEC-9F80-7535CA51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20A-4D44-4BD6-9723-FA0B8EBB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7AD8-81E0-42B2-B5FD-306596EB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5569-0463-4B60-A876-B5E0019CE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486864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51664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7-29T18:00:26Z</dcterms:modified>
  <cp:revision>655</cp:revision>
  <dc:subject/>
  <dc:title>Diapositiva 1</dc:title>
</cp:coreProperties>
</file>