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18D-1C19-4C66-AE48-120A796C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887-974B-4403-B96A-AC9EA0C5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5BF-3F45-4E55-914B-7F3D2AEA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A01-E4C4-461F-91E5-2E20E07E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645-ABD7-4EE2-8E6A-88806950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071-4C4E-41BF-8187-4A8517E7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397-82DF-4DEE-BAA6-54CB3DE8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352-CC83-4774-BEFF-50F18DCB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3FF-63F6-49AC-A3EB-19CFB5B9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0B9-EC18-4E6E-8CA0-BB60B6F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B04-D792-4A67-A723-F52C23EC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92C-0954-4411-BD58-96B012D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4C45-7215-4BBA-B592-02B5CA961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2565000"/>
            <a:ext cx="640368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4-19T23:43:33Z</dcterms:modified>
  <cp:revision>38</cp:revision>
  <dc:subject/>
  <dc:title>TITLE</dc:title>
</cp:coreProperties>
</file>