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0F8-ACA0-47E3-8C41-1FC59E6C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989-7060-4B6E-90FF-5B28BD45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57B-A257-4B93-9833-1C814295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FF7-9317-40FD-B161-A65DA6AC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8AF-5CCE-4237-928F-16BE9189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C73-BCE3-4B79-BF16-89683AA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BE0-11B3-4B2A-9AE3-8E8E7CEB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D6F-A801-42E5-82FE-7171EAA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239-EB73-41E6-826E-E6AF5D21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187-4062-47F3-8BFC-46402B6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32E-96E3-4480-82E1-9F2E537F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561-D559-4864-A07E-AD3F5E3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928B-F9AD-4DE8-B2E2-798093B9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27079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1:34:57Z</dcterms:modified>
  <cp:revision>52</cp:revision>
  <dc:subject/>
  <dc:title>Texto</dc:title>
</cp:coreProperties>
</file>