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38C-C311-4CED-A86D-8AB3CCC6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E32-BFB9-43E4-BB7B-0E4BF6FD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562-F418-4002-949B-878FE846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E14-E6B5-4B28-B5D7-24EF82D4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120-2CC4-48C8-BBDD-47E9CBCA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FCC-3BBF-4D10-A651-57636461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B7E-0CA5-42F0-8571-69303E66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8EB-6C6B-49F3-A69D-B32D95A8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407-0C37-434D-A86C-9E2BBC22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FE9-C2BE-4B04-9CB7-99FDAA57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86B-2692-49E8-B4AF-AE5EE79A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374-0364-4E62-BC39-9A0878EC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772F-99BE-40E0-B762-619E82BC7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4868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516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9T18:00:26Z</dcterms:modified>
  <cp:revision>655</cp:revision>
  <dc:subject/>
  <dc:title>Diapositiva 1</dc:title>
</cp:coreProperties>
</file>