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C76-E292-4CBC-81CD-499ACF58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8E6-03D6-4E76-B8B2-45C14004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748-3C72-47BF-B189-DEA5D9B0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54B-1C29-4F75-9737-F17D6D0F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3CA-EA3D-4583-B1DB-A18AA86B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D6C-7EE2-477D-AB19-259AF7FC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850-1F88-4EFD-8080-D5AD160C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D8B-1CAF-470A-881C-10FCE266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546-E704-49F3-822C-B38ACC24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9D4-F4D7-40C3-A90B-46FD40F3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DAF-96B6-499F-AEE7-4A394570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2EE-2CEF-400D-843D-A638B699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7F69-7992-40C6-BE68-883B2ADD0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640368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19T23:43:33Z</dcterms:modified>
  <cp:revision>38</cp:revision>
  <dc:subject/>
  <dc:title>TITLE</dc:title>
</cp:coreProperties>
</file>