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5D8-9BC3-4854-B23A-BD55874F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6AEB-468C-48E3-B4D3-7C866BD3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7DD-9CAC-4782-A0D2-E43892D88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A31-1FF4-451B-B5F1-FC0291AA0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1D69-A6CB-444B-B0BB-47B93FF1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1891-2B56-4911-9F37-93EB2E0E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34D-1207-4043-BA14-50FF7568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5AB-2014-45E3-B954-6F9DC669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4A4E-88C8-4049-85DD-A9D0E911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621E-A578-4E7A-A093-CFDECA20A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B59-3F7C-4A95-A1B3-957E253C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A0BB-4CF0-44B0-92FB-BE03B92E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CAD3-AD18-4907-9522-2D873B10FF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2707920"/>
            <a:ext cx="52545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4-27T21:34:57Z</dcterms:modified>
  <cp:revision>52</cp:revision>
  <dc:subject/>
  <dc:title>Texto</dc:title>
</cp:coreProperties>
</file>