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9158-6A21-484C-80CF-F1BB9F005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C6C9-1B7B-426E-A0FE-87B46AD41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F668-D480-481E-ADBB-0C79D143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86DC-1DDB-48A1-B741-ABF87A40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D6A-3904-4F16-B76A-C0CF1C16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CFA5-A7FD-495B-A622-79AC3442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200C-7952-41FB-9783-CDB7B20A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5174-F19E-4FF2-82BB-BE5BED71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B6A5-F45A-49AF-86B2-E7464383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4B4C-892A-4509-A849-F5DF6456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049B-5B1B-41E3-B648-B6D0A4FA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90C8-D182-4321-8FA5-B1C4C540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A9E7-7385-406D-B83E-65BDA3CEA9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43280" y="4868640"/>
            <a:ext cx="612144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8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1640" y="5516640"/>
            <a:ext cx="612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7-29T18:00:26Z</dcterms:modified>
  <cp:revision>655</cp:revision>
  <dc:subject/>
  <dc:title>Diapositiva 1</dc:title>
</cp:coreProperties>
</file>