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AA24-EE52-4CBA-90E0-EBD2E437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CBC-8B04-49E3-A7B2-60FCAC1F3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2ED-D3D9-41E4-B804-CBEE1DC3E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DA1B-1D24-47F0-A119-B187632CB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A7B9-77D9-41F2-822B-4DC7668B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F851-6C39-4CA6-BD37-3E2A4C4C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8E78-2F71-47E0-99B4-9B43C4640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2479-FA3F-483B-A56C-0CDC77CC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902F-DEC2-4582-AB64-C540F7982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8356-A1E7-4626-9EC0-2E9994EC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CCF-4902-4561-ADDD-FD978510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1BCD-90B2-48A9-89C0-DD13DA38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1D47E-36B7-4766-9D33-F864CA305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56000" y="2565000"/>
            <a:ext cx="640368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20:51:52Z</dcterms:created>
  <dc:creator>Mariajose</dc:creator>
  <dc:description/>
  <dc:language>en-US</dc:language>
  <cp:lastModifiedBy>Mariajose</cp:lastModifiedBy>
  <dcterms:modified xsi:type="dcterms:W3CDTF">2009-04-19T23:43:33Z</dcterms:modified>
  <cp:revision>38</cp:revision>
  <dc:subject/>
  <dc:title>TITLE</dc:title>
</cp:coreProperties>
</file>