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8C7-79CC-4038-A853-99D15A9E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E0B-9689-4C91-A4E5-EE84681A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B4E-86C9-4749-8009-36DB13FF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C7F-7DD3-4F39-9EEF-E5A0A1AF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91B-B021-4721-816B-2C069E3E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37C-DB10-4793-9040-EDFACEA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D33-C29C-46E1-81E6-413A890D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B3E-10D6-432D-948C-FB50EA39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F86-A042-4BF7-B4B7-EFE1B6F6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0C2-6612-4635-B227-9AF2E244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1F8-4784-4380-8319-B66D9CB3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607-9468-42C8-945F-0EA9BE5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85E-7EDD-462B-8BBF-399386E1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27079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1:34:57Z</dcterms:modified>
  <cp:revision>52</cp:revision>
  <dc:subject/>
  <dc:title>Texto</dc:title>
</cp:coreProperties>
</file>