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613A-A7D7-4012-BCF5-CA9333050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E316-5958-42CC-8292-5BC06616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E12A-F3DC-4B15-B0F0-B621AC68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F98E-F8B9-4A54-A391-9F0730FF8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8268-02AC-4E41-B75A-7A0594EE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BED0-EFE2-4956-BBC8-49FDAFAB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47AF-F722-4F1B-ABCE-EAA0A84E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503F-5ABC-44ED-AB06-96CB6433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1DD1-2C84-4045-80DA-47A708B6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1DDD-A6C7-47D0-AD4E-C216179E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CA7B-7F14-4DB0-BA70-36D9447C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69D3-7B64-4D43-9798-123F7853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0A9A-2C54-4B0B-BC83-56638500B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43280" y="4868640"/>
            <a:ext cx="6121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8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516640"/>
            <a:ext cx="6121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ffffff"/>
                </a:solidFill>
                <a:latin typeface="Arial"/>
              </a:rPr>
              <a:t>Subheading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7-29T18:00:26Z</dcterms:modified>
  <cp:revision>655</cp:revision>
  <dc:subject/>
  <dc:title>Diapositiva 1</dc:title>
</cp:coreProperties>
</file>