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EA9-5EF3-4337-8796-74ED113C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40C-61AA-4F28-AF1B-D12C7458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D8E-AC0E-4583-BFF1-2D1E419E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A4A-1054-4945-A468-603D8D7C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51F-FBD7-4BC9-82D0-20045A74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F01-6C89-4FD7-8E03-FBC58934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68C-D8E8-4E84-940C-99A6FE47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82C-2FFF-4BB4-8833-B71B20A3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F0A-985C-4D4B-8F11-FD9A8CF1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5FE2-73F5-4C8D-8FD2-4F1C07FF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24E-7446-484A-B6A4-DDC3952C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4B3-768C-4396-85EB-E56F7926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4AB4-6DD5-4203-B50B-0533C9E45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2565000"/>
            <a:ext cx="640368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4-19T23:43:33Z</dcterms:modified>
  <cp:revision>38</cp:revision>
  <dc:subject/>
  <dc:title>TITLE</dc:title>
</cp:coreProperties>
</file>