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8F5-3AA8-4829-8EA2-2631704C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C0B-FECA-4B39-A126-E05EA4D9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545-D870-4811-A7BC-F79C61C4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BEE-6C74-467A-AFA7-12CA7B68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03B-988C-4FFE-90F2-63C6792C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B63-8387-49FE-92D6-40D15A41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7AC-2B61-4D24-88CA-EE725092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2EE-A760-4B86-8988-2278745B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9D0-1459-48FA-8B82-5B08D6B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9F8-2D4D-4BE9-8132-A4A1583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A5C-409B-4A5A-8DB6-32D6BBE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B4D-9B7D-44D8-9499-14CEE654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DE86-6BB6-4223-85A4-A72D98AE9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1:34:57Z</dcterms:modified>
  <cp:revision>52</cp:revision>
  <dc:subject/>
  <dc:title>Texto</dc:title>
</cp:coreProperties>
</file>