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668-D1A2-4A0B-ACC1-661BF88D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65B-DFDF-462A-AA0F-0B3F4FC0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AA5-BD80-4E89-B9BF-5045F700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6F3-2ACE-42B6-A705-ABCFA2B2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5E8-F5A4-4526-B0F8-214A997E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AF0-CC29-46C0-B02F-604A8B15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209-891C-4A1B-8641-4592BBF5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1A2-1C2F-4A21-817F-1AFC8141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1CF-3A00-43B2-A124-4BDDC732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DB1-350B-4606-9C5C-D9F89588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6D4-B733-4572-AA17-4C081FF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843-BCC4-4ACF-83EB-BDD1AF89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5BB0-440D-4D55-8DA3-16840AB4D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4868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516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9T18:00:26Z</dcterms:modified>
  <cp:revision>655</cp:revision>
  <dc:subject/>
  <dc:title>Diapositiva 1</dc:title>
</cp:coreProperties>
</file>