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4DB-1AC4-436B-8DFD-AD0512B8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446-9495-41FA-B9CE-8149A627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784-B80F-47BA-8E00-901076CB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F94-E4E9-4121-B539-9B97A575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B9F-6DD8-4B82-BA2B-6354497F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357-57F8-438C-B0D7-45796737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035-0E88-46CA-B25D-9191FCEB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F0F-309D-4110-AEAE-FCB8ED5F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F4A-C250-49C9-83E4-0EEAF546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63E-1F72-4B97-8D57-FAD9BE2B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5A8-7973-4D49-9439-6BA2BF14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5FC-A837-401D-BAA0-9264EEAF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580C-0F56-47B0-AE14-909DECA95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5-25T20:54:10Z</dcterms:modified>
  <cp:revision>62</cp:revision>
  <dc:subject/>
  <dc:title>TITLE</dc:title>
</cp:coreProperties>
</file>