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B7FF-A8A8-4676-AA2F-FF12539BC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F66A-6BD6-4134-B5B0-F960B07A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32E2-362D-410B-BBC0-F30AB4E71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74EA-EC35-41C5-9A27-7AF3BB5DB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9F74-07B7-4696-82F9-9D63F264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862A-AFD3-4E01-BCB6-3C149C81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E6B1-A097-40ED-8FA9-37ACC2C7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3718-4B0B-4BA5-8DD2-4B0CAFCB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47BB-407E-4E1B-8B32-13E505CD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FE41-1F3A-49EA-9FFA-2C4A6017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57A3-EC10-465E-A9C3-BF3C48B1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F77E-C77B-40D5-B432-722DDDC6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FBB3-A93B-4336-9CCE-290729A65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442764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846440"/>
            <a:ext cx="3960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5-25T19:15:56Z</dcterms:modified>
  <cp:revision>706</cp:revision>
  <dc:subject/>
  <dc:title>Diapositiva 1</dc:title>
</cp:coreProperties>
</file>