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622-E717-49E0-96BC-B618C1A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764-94EB-4AA6-870A-21D46729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37F-E997-41C8-B72B-A7B32D2B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F04-EC3E-4C77-8F6C-085FF16F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4E7-3963-464F-BA96-ED0703A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B7E-2314-41E1-9E78-9288CFB2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0A1-AD56-4E66-94F0-F0B4850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830-AE9B-4C66-8F69-2F48174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85A-D00A-4092-A332-B437262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F3C-94E4-426D-B409-4F3B75D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2BD-CACB-430F-AC14-1ED7BB9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F55-C6A1-4D42-8AD8-55BAA80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4EF-62CC-4886-960D-1FC88E562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116680"/>
            <a:ext cx="464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4T20:24:35Z</dcterms:modified>
  <cp:revision>595</cp:revision>
  <dc:subject/>
  <dc:title>Diapositiva 1</dc:title>
</cp:coreProperties>
</file>