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78A1-192C-4E08-9AFE-1E9521BD7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6D18-50DD-4926-A393-D75E8858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3CF6-7B5A-4C83-970F-FC0827A3D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ACAC-B01D-46A7-9611-450C6B2DF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9D1D-6B91-4623-85A7-A1FF2EBE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DF08-B5F2-4B02-BA23-2DD1181C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421C-BB94-49A8-9575-5A4173CB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ED3D-3544-4181-9C2E-6D966FD9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77A8-68DF-4C91-9D2E-5ADD30F2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F5FE-A577-41B6-ADC3-533E1894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7893-EA9A-40FB-A125-1C9A24EA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F272-C2EC-49FE-AE26-D5EF82D1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E3D2-A8E8-462C-BBC6-BE1D2E3094B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55640" y="836280"/>
            <a:ext cx="4248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f26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5"/>
          <p:cNvSpPr/>
          <p:nvPr/>
        </p:nvSpPr>
        <p:spPr>
          <a:xfrm>
            <a:off x="3924360" y="1628640"/>
            <a:ext cx="4537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f2600"/>
                </a:solidFill>
                <a:latin typeface="Arial"/>
              </a:rPr>
              <a:t>My name</a:t>
            </a:r>
            <a:br>
              <a:rPr sz="1800"/>
            </a:br>
            <a:r>
              <a:rPr b="1" lang="es-UY" sz="1800" spc="-1" strike="noStrike">
                <a:solidFill>
                  <a:srgbClr val="0f2600"/>
                </a:solidFill>
                <a:latin typeface="Arial"/>
              </a:rPr>
              <a:t>My position, contact information</a:t>
            </a:r>
            <a:br>
              <a:rPr sz="1800"/>
            </a:br>
            <a:r>
              <a:rPr b="1" lang="es-UY" sz="1800" spc="-1" strike="noStrike">
                <a:solidFill>
                  <a:srgbClr val="0f2600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3-02-21T15:09:11Z</dcterms:modified>
  <cp:revision>713</cp:revision>
  <dc:subject/>
  <dc:title>Diapositiva 1</dc:title>
</cp:coreProperties>
</file>