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478E-5A83-4614-AE7F-6C37A0AD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C5FF-D050-4FB3-AABD-7AD59350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7117-D0D7-486B-B90E-02CF71B3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A25F-3C64-4F3A-95C0-EAB27582C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9881-E5FD-46B8-A74A-A72396F9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8EF9-1D88-48E4-BBF1-26E94471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D51D-B287-4C9B-8683-749371A3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6105-040C-4C72-9E95-73658A9B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6427-0B67-4051-B1C5-551B6A44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78D1-0F7D-4C77-BD16-F6C36B12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110E-31AA-4171-B062-2900AB66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1B70-D01F-43C1-A251-9543D018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4301-2D14-452B-B9E6-64CFA82DE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ariajose</cp:lastModifiedBy>
  <dcterms:modified xsi:type="dcterms:W3CDTF">2009-05-25T20:54:10Z</dcterms:modified>
  <cp:revision>62</cp:revision>
  <dc:subject/>
  <dc:title>TITLE</dc:title>
</cp:coreProperties>
</file>