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DBA-4D0A-48B6-B2E9-100A3150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9D1-1AB3-4337-AC87-848B9602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7BE-EDB2-42FB-86AF-13742920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17E-D5F8-482E-90E2-46E93B54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57F-764D-4811-928E-645B7396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322-CCD9-48A3-B95E-6F050F6A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0CD-16C6-4B06-80DE-56EDE2AA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9AD-7455-4320-A9D6-DD270BB9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929-8CA3-4714-B2D8-322500BB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674-09E8-4AED-934A-5C2F28A0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4C8-038C-4A9F-9A21-FA0ADC60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F07-6F71-444F-80CD-8F096BAA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0CB5-A325-4DBE-8A7A-B57BDFC1F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846440"/>
            <a:ext cx="396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25T19:15:56Z</dcterms:modified>
  <cp:revision>706</cp:revision>
  <dc:subject/>
  <dc:title>Diapositiva 1</dc:title>
</cp:coreProperties>
</file>