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75E-42B5-4FBD-8B49-FADB3747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83C3-867C-4A2A-A3D4-6AC042FC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884-014B-4793-8332-6520D1FE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D54E-07D4-4BC4-9F9B-2EB297F4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039-3076-4AB3-A1D0-F88C749A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507E-5311-4900-8811-E27366DD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C70-E2A6-4CDC-AABB-C2F1F1B4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41D-181B-45BA-A00C-E386DB27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473-99CF-444D-87D6-4E656547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A45-2DA3-442A-BA3E-A803022D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4FA-45A2-4D95-B3C7-1B256463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421-FE4E-44F9-9D7E-A5FF3B2D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6B19-AAED-46B8-A87C-54B1EAF5D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116680"/>
            <a:ext cx="4644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4321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14T20:24:35Z</dcterms:modified>
  <cp:revision>595</cp:revision>
  <dc:subject/>
  <dc:title>Diapositiva 1</dc:title>
</cp:coreProperties>
</file>