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88B-5CF2-452D-A309-5F67C699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176-896D-48CC-8D81-93100FDB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61E-93D8-4E88-A910-74215309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CED-B048-4D15-AB72-3F3228C3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646-E002-42B0-A197-315E1C18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E0D-0B4A-48C6-846B-9D9CE4FE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2C4-1C93-4E7A-8812-687AAA61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828-0375-48C5-9F90-3C111342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ED0-A06D-42AF-BF87-0FC908C5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971-0361-4DD5-A27B-CDD3CE31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BC1-4871-4AF8-AC60-E61E08BD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529-5D9C-4624-B023-D989D9D9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1E41-7592-4836-8990-BA53F3CC25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f26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924360" y="1628640"/>
            <a:ext cx="453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2-21T15:09:11Z</dcterms:modified>
  <cp:revision>713</cp:revision>
  <dc:subject/>
  <dc:title>Diapositiva 1</dc:title>
</cp:coreProperties>
</file>