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FAC3-26FE-4D00-95B1-FACC06E8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CB5C-5FDE-4B64-91D1-BF59277B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CF2-7884-4C0B-8639-39339C8C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76E-78C0-4171-8A81-1ABA2C18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AC0-6884-492F-BF0C-04613A22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141-570E-4938-AF91-4C4288BE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9DE-2614-49CC-884B-0AFB53C8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C6F-54CA-4688-9CA9-1EAB2353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5FFD-E323-4585-9F2D-BBA2A024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B23A-CE62-496C-9BDE-EDB35999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F07-A18A-4DBB-8D18-B5167E35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AFD6-0C47-492B-BB79-7E2B3987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55E0-324A-4664-AAE8-9291869A8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5-25T20:54:10Z</dcterms:modified>
  <cp:revision>62</cp:revision>
  <dc:subject/>
  <dc:title>TITLE</dc:title>
</cp:coreProperties>
</file>