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E7CA-F9B3-457F-8C12-87AD1C643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82D2-9C80-4F59-999E-B33060DE0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9D6B-8822-48F0-8CD8-9E13FA486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F4CC-A04C-40F0-B3B6-C4A67FB94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548A-9BA5-40B7-9B46-95015E278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1809-087A-432C-A561-03D836E4C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0BB9-A4CA-4720-BB76-33E3163F3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1E68-5B7B-4028-A27F-7BF0B7F71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FF3E-F135-4C99-8B6D-7DC9835DB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D750-F59C-4F56-9470-451794CC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9CC4-39D0-4D07-9F3D-10D13E83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8C50-3959-41E1-8631-A17284AD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AB551-3546-47B5-A186-FCA183D0F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267920"/>
            <a:ext cx="442764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000000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1846440"/>
            <a:ext cx="39607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000000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5-25T19:15:56Z</dcterms:modified>
  <cp:revision>706</cp:revision>
  <dc:subject/>
  <dc:title>Diapositiva 1</dc:title>
</cp:coreProperties>
</file>