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B2E-0818-46F2-9299-A5E6D085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86D-C66B-4978-BDC2-01F3EBE7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C88-F144-4DA5-909D-9F82D5DF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1C4-F9FB-4A95-8470-D870866C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4B8-6707-4AF1-AE0C-E060E80E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8B1-4F55-4AC5-86A3-2CA2F1C1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B8C-1AE5-4BA2-8712-3796DF97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CEA-680A-46D7-982F-1E69395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C20-FDF9-4859-A10C-2A369991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D6B-ED1F-4F80-8BB9-80CCCD1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068-922A-4708-9B73-961BA84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A9C-A8BD-4FB6-8EFB-635FC013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C3DC-4A32-4EAA-BE1D-D736928D2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16680"/>
            <a:ext cx="464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4T20:24:35Z</dcterms:modified>
  <cp:revision>595</cp:revision>
  <dc:subject/>
  <dc:title>Diapositiva 1</dc:title>
</cp:coreProperties>
</file>