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67E0-1362-40FF-8103-9790017ED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4EEA-D733-403D-96D4-364E4B91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B93A-2BC6-4BB5-881D-5AB392D79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359D-91DC-4E11-8E72-74F2AB01D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2B87-510D-4600-A415-210883AE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529A-103F-4533-9591-1B3EDF92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6D21-792B-48B7-B64A-86F17DA7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6B4D-A0AD-4A5C-84DA-9FA9DBA9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36AE-36CB-469D-8030-EE4E7FB9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33F4-2B37-4B4D-AA1C-6DF8E910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9084-2FB1-4AA1-95FA-E57DC985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3A87-DD66-40E6-AA63-DE8BD298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9876-5C98-4919-963D-4CA87D15C0A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55640" y="836280"/>
            <a:ext cx="4248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f26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5"/>
          <p:cNvSpPr/>
          <p:nvPr/>
        </p:nvSpPr>
        <p:spPr>
          <a:xfrm>
            <a:off x="3924360" y="1628640"/>
            <a:ext cx="4537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f2600"/>
                </a:solidFill>
                <a:latin typeface="Arial"/>
              </a:rPr>
              <a:t>My name</a:t>
            </a:r>
            <a:br>
              <a:rPr sz="1800"/>
            </a:br>
            <a:r>
              <a:rPr b="1" lang="es-UY" sz="1800" spc="-1" strike="noStrike">
                <a:solidFill>
                  <a:srgbClr val="0f2600"/>
                </a:solidFill>
                <a:latin typeface="Arial"/>
              </a:rPr>
              <a:t>My position, contact information</a:t>
            </a:r>
            <a:br>
              <a:rPr sz="1800"/>
            </a:br>
            <a:r>
              <a:rPr b="1" lang="es-UY" sz="1800" spc="-1" strike="noStrike">
                <a:solidFill>
                  <a:srgbClr val="0f2600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3-02-21T15:09:11Z</dcterms:modified>
  <cp:revision>713</cp:revision>
  <dc:subject/>
  <dc:title>Diapositiva 1</dc:title>
</cp:coreProperties>
</file>