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2CB4-D09B-46D1-8BF8-E2CC4926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626A-B11A-4B67-BAB9-D3601396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36DC-EDD8-418C-B682-D634438F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8B0-E0FD-44BC-9C87-B745C09F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C205-6905-4DF5-856E-FE465F30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EEC-DD1B-4E87-9AB8-1E54D955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BE5-9B97-4D92-A687-66DBB8AF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211B-1563-42F2-B233-B2A78C4B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54A7-69C8-4AEF-AD4E-198AE05E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73F5-401C-42A1-8FCB-2027A88A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DBD8-4333-4227-A862-695DDED2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E78F-80E6-4AFE-AD18-0988CDFB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D6B8-EC04-4098-B874-34CFA6123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846440"/>
            <a:ext cx="3960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25T19:15:56Z</dcterms:modified>
  <cp:revision>706</cp:revision>
  <dc:subject/>
  <dc:title>Diapositiva 1</dc:title>
</cp:coreProperties>
</file>