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4A6-3F03-43AD-8141-1F74CE8A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D13-F9BC-4557-AA37-3AFFD17E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74A7-B6BE-43BE-93AC-2DD52A41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628-C523-45B4-898F-E906A36C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C0C-7402-4F26-B603-2D711193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824-8C75-45B4-8E32-28D4F40C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359-378D-4E90-A914-522B2DF2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F09-4CE6-4F4F-B031-666A9A12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BAD-18DB-4262-ABF3-CE6D4BA0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897-B477-463A-A5BC-73453642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514-154B-4E9D-9F32-9CB96109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5979-6DF9-4ECD-B9DC-3E147CB6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0A38-4378-4A7C-878A-185EE96BB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846440"/>
            <a:ext cx="396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25T19:15:56Z</dcterms:modified>
  <cp:revision>706</cp:revision>
  <dc:subject/>
  <dc:title>Diapositiva 1</dc:title>
</cp:coreProperties>
</file>