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8C13-A883-4320-8BE1-B4D02F07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F713-3288-4B4B-A31D-EE397183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2952-BC4E-4041-893C-E39BDE42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3EC-7A59-4B24-9666-AB6D4FAF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998A-2A80-405A-8099-DDFAC8F0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5BAD-D941-4E6C-A947-4B18678A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CF29-9F67-4672-ADE5-4F6394E4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4D34-8447-405A-A3D7-ABE6B616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6B2A-276A-46C7-90F4-0E3AFAAA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E3AE-890C-4349-B38B-6D15CBF4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A8EA-245E-4E36-843B-723657C7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AC8B-4600-4814-BEDA-005667FE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B4B7-EA92-42D3-AEFF-1F3F30F01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116680"/>
            <a:ext cx="4644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43210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Your Sub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14T20:24:35Z</dcterms:modified>
  <cp:revision>595</cp:revision>
  <dc:subject/>
  <dc:title>Diapositiva 1</dc:title>
</cp:coreProperties>
</file>