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F18-C9D1-434E-AA25-20ADF35A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4FE-F5C8-4B5B-BE47-63F0397D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A26-B4C3-48B4-B878-2ECD2F7C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E8C-EBF9-4FE6-AB86-1102D334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3A1-968D-4246-904B-82201AE0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0DD-72CC-43A0-8EB0-409F90F8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818-A180-4DBF-BF5F-E612D12B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8D7-4913-4D16-A937-8C3A3217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FDF-CFB8-4402-87CB-24E42C95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B8B-D0F7-4DE2-86F7-81DF1722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9E9-34B7-4C4B-93ED-47333709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CD2-B127-4C9E-A1D5-2662FF5A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286A-393A-4213-BDF3-4AEF7C3CB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5-25T20:54:10Z</dcterms:modified>
  <cp:revision>62</cp:revision>
  <dc:subject/>
  <dc:title>TITLE</dc:title>
</cp:coreProperties>
</file>