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849-3C52-4D7D-9AD0-82244713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7F4F-032C-461D-9B06-358CBDCA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5E1-E24A-44C2-ACEF-F53343EA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33B-B7DF-4EBA-8E98-2E517000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29E-2B05-4A77-A444-31DD96EC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631-CA1C-4ACB-8404-FE5B002D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3570-F656-4D15-A54D-5F420EFC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8BA-503E-4418-9D08-31FE0108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485-A99D-4DC4-9F3C-673F2F00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CB4-1B40-4F5C-A935-AE6BC66A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5BF-2F4E-478D-986C-53F66EF8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AE0C-EB85-4D6E-B4CB-48772B82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5A6F-FA4B-4481-9C24-9DC62807B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907920"/>
            <a:ext cx="52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27T22:00:42Z</dcterms:modified>
  <cp:revision>61</cp:revision>
  <dc:subject/>
  <dc:title>Texto</dc:title>
</cp:coreProperties>
</file>