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95B-71C4-4E12-B1BF-6DEB55CB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345-8B0D-4810-91E6-57297393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EAA-076E-4A80-AAA2-E56BB2FC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CD7-2FB4-4304-BF44-67421AE4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E0F-E6BC-401F-8537-C24DB513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02F-E963-4EF2-9C31-F9B4545F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5B1-FC29-426B-8875-D41F4651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2DC-E948-4272-8029-C97E6672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936-88F1-45CD-BD53-31EF5C5D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661-0547-4798-BC8D-67253E3C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DAF-B707-4C86-B871-A27C58ED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296-731C-4D56-9C28-EA2898F8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C5BE-EFB1-4B5B-B977-8AA1A47F5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3-10T13:42:01Z</dcterms:modified>
  <cp:revision>450</cp:revision>
  <dc:subject/>
  <dc:title>Diapositiva 1</dc:title>
</cp:coreProperties>
</file>