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C4B-2BE1-4A13-91CD-DB98EDB1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270-B998-44A2-B0AE-B132381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18B-DB66-425F-B58F-0F4B4BD1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AA3-B4A7-40EC-A1E1-9361392D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51A-AC05-4D40-9EBC-EBEA0696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D32-112F-479C-B019-039A7159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CE8-F297-4FAD-8D5C-2E2F649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6DF-5F7B-43D4-8AE6-84615083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0C30-EAC9-4A47-A002-3099D6E7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E38-750B-4B00-935D-A8C45FCB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159-A7BB-4044-B244-55ED3FB7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4CA1-8127-493F-9BC5-EE63ECC7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47A1-8D9B-46E3-ADD8-F2A24218F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9T16:01:13Z</dcterms:modified>
  <cp:revision>182</cp:revision>
  <dc:subject/>
  <dc:title>Diapositiva 1</dc:title>
</cp:coreProperties>
</file>