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7194-24E2-4F99-ADAF-290B27428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8BDF-1AD6-4185-85B3-D326F73F4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7911-2F3D-4FAE-BB34-4DAC46230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3354-1229-4548-B10A-C7D8FC5AC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7862-8CDA-4A19-81DD-B0F97E2E3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711D-493D-4691-B9FE-84648367F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96B8-568D-4417-8C4B-64C758C2C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8802-8B4D-405F-B1DE-BF141ED4F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0C93-AF9E-4214-ACC9-445DE8E3C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864C-5C7B-4E31-8B42-C9C460003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6585-F366-493C-8F60-C9AC0B996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58C1-23DB-4429-8DC1-F61F0257B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D4F70-DC47-4E0D-B91E-2348640F28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16360" y="1125360"/>
            <a:ext cx="518472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4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10-17T18:41:53Z</dcterms:modified>
  <cp:revision>734</cp:revision>
  <dc:subject/>
  <dc:title>Diapositiva 1</dc:title>
</cp:coreProperties>
</file>