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0FC-A29B-4085-97CD-5163B79C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68F4-4560-4D24-9B64-FD2ED11C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895-FE1C-4127-ACF6-AC72D031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5CB-329C-482B-B88F-87F48B7E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524-C20D-479C-AFFA-DA46DB4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D4E-B981-43D7-88F2-322BD561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B3B-0781-46CE-A513-D6C76A3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767-A94F-4762-931C-72773606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BA2-49E4-42E1-A6F8-3BEFDA4F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EFD-0779-4AA5-BE54-D033BE8D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A58-2629-43A3-9273-186B889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2F5-1B8B-4337-B33A-1CFB626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BE5-2F3D-4DCA-A10D-F7EA111F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00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45000"/>
            <a:ext cx="4321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9T20:04:44Z</dcterms:modified>
  <cp:revision>593</cp:revision>
  <dc:subject/>
  <dc:title>Diapositiva 1</dc:title>
</cp:coreProperties>
</file>